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32.wmf" ContentType="image/x-wmf"/>
  <Override PartName="/ppt/media/image25.wmf" ContentType="image/x-wmf"/>
  <Override PartName="/ppt/media/image23.wmf" ContentType="image/x-wmf"/>
  <Override PartName="/ppt/media/image22.png" ContentType="image/png"/>
  <Override PartName="/ppt/media/image21.wmf" ContentType="image/x-wmf"/>
  <Override PartName="/ppt/media/image18.png" ContentType="image/png"/>
  <Override PartName="/ppt/media/image19.wmf" ContentType="image/x-wmf"/>
  <Override PartName="/ppt/media/image20.png" ContentType="image/png"/>
  <Override PartName="/ppt/media/image17.png" ContentType="image/png"/>
  <Override PartName="/ppt/media/image16.png" ContentType="image/png"/>
  <Override PartName="/ppt/media/image15.png" ContentType="image/png"/>
  <Override PartName="/ppt/media/image24.wmf" ContentType="image/x-wmf"/>
  <Override PartName="/ppt/media/image1.wmf" ContentType="image/x-wmf"/>
  <Override PartName="/ppt/media/image28.png" ContentType="image/png"/>
  <Override PartName="/ppt/media/image31.wmf" ContentType="image/x-wmf"/>
  <Override PartName="/ppt/media/image2.png" ContentType="image/png"/>
  <Override PartName="/ppt/media/image26.wmf" ContentType="image/x-wmf"/>
  <Override PartName="/ppt/media/image36.png" ContentType="image/png"/>
  <Override PartName="/ppt/media/image13.wmf" ContentType="image/x-wmf"/>
  <Override PartName="/ppt/media/image30.png" ContentType="image/png"/>
  <Override PartName="/ppt/media/image37.wmf" ContentType="image/x-wmf"/>
  <Override PartName="/ppt/media/image39.png" ContentType="image/png"/>
  <Override PartName="/ppt/media/image40.png" ContentType="image/png"/>
  <Override PartName="/ppt/media/image42.png" ContentType="image/png"/>
  <Override PartName="/ppt/media/image43.png" ContentType="image/png"/>
  <Override PartName="/ppt/media/image3.wmf" ContentType="image/x-wmf"/>
  <Override PartName="/ppt/media/image33.png" ContentType="image/png"/>
  <Override PartName="/ppt/media/image38.png" ContentType="image/png"/>
  <Override PartName="/ppt/media/image8.png" ContentType="image/png"/>
  <Override PartName="/ppt/media/image44.wmf" ContentType="image/x-wmf"/>
  <Override PartName="/ppt/media/image45.png" ContentType="image/png"/>
  <Override PartName="/ppt/media/image46.wmf" ContentType="image/x-wmf"/>
  <Override PartName="/ppt/media/image47.png" ContentType="image/png"/>
  <Override PartName="/ppt/media/image12.png" ContentType="image/png"/>
  <Override PartName="/ppt/media/image41.png" ContentType="image/png"/>
  <Override PartName="/ppt/media/image9.wmf" ContentType="image/x-wmf"/>
  <Override PartName="/ppt/media/image10.jpeg" ContentType="image/jpeg"/>
  <Override PartName="/ppt/media/image14.png" ContentType="image/png"/>
  <Override PartName="/ppt/media/image7.png" ContentType="image/png"/>
  <Override PartName="/ppt/media/image6.wmf" ContentType="image/x-wmf"/>
  <Override PartName="/ppt/media/image11.png" ContentType="image/png"/>
  <Override PartName="/ppt/media/image5.wmf" ContentType="image/x-wmf"/>
  <Override PartName="/ppt/media/image35.wmf" ContentType="image/x-wmf"/>
  <Override PartName="/ppt/media/image34.png" ContentType="image/png"/>
  <Override PartName="/ppt/media/image4.png" ContentType="image/png"/>
  <Override PartName="/ppt/media/image27.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7" name="Text Box 14"/>
          <p:cNvSpPr/>
          <p:nvPr/>
        </p:nvSpPr>
        <p:spPr>
          <a:xfrm>
            <a:off x="646740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0FFF-7BA4-4F01-AFB2-92E0C8D02752}"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829A-CA71-4641-A9B2-009678383D29}"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4" name="Text Box 9"/>
          <p:cNvSpPr/>
          <p:nvPr/>
        </p:nvSpPr>
        <p:spPr>
          <a:xfrm>
            <a:off x="661968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8EE4-A66C-4B7C-B7A4-3D1ACA1AB644}"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DAA5-6D31-4A7E-9EC8-B8FE7D320E3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60976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ructuring</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rve Accounts – FPL Example</a:t>
            </a:r>
            <a:endParaRPr b="1" lang="en-US" sz="2000" spc="-1" strike="noStrike">
              <a:solidFill>
                <a:srgbClr val="000000"/>
              </a:solidFill>
              <a:latin typeface="Arial"/>
            </a:endParaRPr>
          </a:p>
        </p:txBody>
      </p:sp>
      <p:sp>
        <p:nvSpPr>
          <p:cNvPr id="1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bt service reserve covers 12 months of debt service </a:t>
            </a:r>
            <a:endParaRPr b="0" lang="en-US" sz="2000" spc="-1" strike="noStrike">
              <a:solidFill>
                <a:srgbClr val="000000"/>
              </a:solidFill>
              <a:latin typeface="Arial"/>
            </a:endParaRPr>
          </a:p>
          <a:p>
            <a:pPr lvl="1" marL="635040" indent="165240">
              <a:lnSpc>
                <a:spcPct val="8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ed at closing, either in cash or an Letter of Credit. </a:t>
            </a:r>
            <a:endParaRPr b="0" lang="en-US" sz="2000" spc="-1" strike="noStrike">
              <a:solidFill>
                <a:srgbClr val="000000"/>
              </a:solidFill>
              <a:latin typeface="Arial"/>
            </a:endParaRPr>
          </a:p>
          <a:p>
            <a:pPr marL="406440" indent="-406440">
              <a:lnSpc>
                <a:spcPct val="8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 maintenance account is funded at closing in the amount of $1 million initially to $3.5 million by 2020. </a:t>
            </a:r>
            <a:endParaRPr b="0" lang="en-US" sz="2000" spc="-1" strike="noStrike">
              <a:solidFill>
                <a:srgbClr val="000000"/>
              </a:solidFill>
              <a:latin typeface="Arial"/>
            </a:endParaRPr>
          </a:p>
          <a:p>
            <a:pPr marL="406440" indent="-406440">
              <a:lnSpc>
                <a:spcPct val="8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cial $15 million O&amp;M reserve is funded at closing, with either:</a:t>
            </a:r>
            <a:endParaRPr b="0" lang="en-US" sz="2000" spc="-1" strike="noStrike">
              <a:solidFill>
                <a:srgbClr val="000000"/>
              </a:solidFill>
              <a:latin typeface="Arial"/>
            </a:endParaRPr>
          </a:p>
          <a:p>
            <a:pPr lvl="1" marL="635040" indent="165240">
              <a:lnSpc>
                <a:spcPct val="8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a:t>
            </a:r>
            <a:endParaRPr b="0" lang="en-US" sz="2000" spc="-1" strike="noStrike">
              <a:solidFill>
                <a:srgbClr val="000000"/>
              </a:solidFill>
              <a:latin typeface="Arial"/>
            </a:endParaRPr>
          </a:p>
          <a:p>
            <a:pPr lvl="1" marL="635040" indent="165240">
              <a:lnSpc>
                <a:spcPct val="8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etter of credit , or </a:t>
            </a:r>
            <a:endParaRPr b="0" lang="en-US" sz="2000" spc="-1" strike="noStrike">
              <a:solidFill>
                <a:srgbClr val="000000"/>
              </a:solidFill>
              <a:latin typeface="Arial"/>
            </a:endParaRPr>
          </a:p>
          <a:p>
            <a:pPr lvl="1" marL="635040" indent="165240">
              <a:lnSpc>
                <a:spcPct val="8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uarantee from a corporate entity with a senior unsecured rating of at least 'BBB'. </a:t>
            </a:r>
            <a:endParaRPr b="0"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Credit Quality</a:t>
            </a:r>
            <a:endParaRPr b="1" lang="en-US" sz="2000" spc="-1" strike="noStrike">
              <a:solidFill>
                <a:srgbClr val="000000"/>
              </a:solidFill>
              <a:latin typeface="Arial"/>
            </a:endParaRPr>
          </a:p>
        </p:txBody>
      </p:sp>
      <p:sp>
        <p:nvSpPr>
          <p:cNvPr id="43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LCR Concept can be used to gauge the economics of the project relative to the amount of debt outstanding:</a:t>
            </a:r>
            <a:endParaRPr b="0" lang="en-US" sz="20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dividends can be paid until all of the debt is paid, the present value of cash flow can be compared to the present value of the debt.</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esent value of the debt exceeds the present value of the free cash flow at the debt rate, there is no way the project can payoff the debt – the project has too much gear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bt holders get all of the cash flow before any equity, the present value of the debt relative to the present value of cash is an effective statistic that can measure how much a variable changes before a debt default occur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cost increases by a certain amount, a LLCR of 1.0 measures the break-even point before which the debt cannot be repaid.</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Life Coverage Ratio (PLCR)</a:t>
            </a:r>
            <a:endParaRPr b="1" lang="en-US" sz="2000" spc="-1" strike="noStrike">
              <a:solidFill>
                <a:srgbClr val="000000"/>
              </a:solidFill>
              <a:latin typeface="Arial"/>
            </a:endParaRPr>
          </a:p>
        </p:txBody>
      </p:sp>
      <p:sp>
        <p:nvSpPr>
          <p:cNvPr id="43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28600" indent="-2286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CR or project life coverage ratio covers the residual cash flow of the project as well as the loan life period.</a:t>
            </a:r>
            <a:endParaRPr b="0" lang="en-US" sz="20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LCR, the numerator uses the present value of cash flow over the life of the project rather than over the life of the debt.</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is related to the loan to value ratio if one assumes that the present value of the cash flow is the value of the project:</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 = Value/Loan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Loan/Valu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1/PLCR</a:t>
            </a:r>
            <a:endParaRPr b="0" lang="en-US" sz="16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of thumb, the present value of the operating cash flows before tax should be 1.5x the debt amount.</a:t>
            </a:r>
            <a:endParaRPr b="0" lang="en-US" sz="1800" spc="-1" strike="noStrike">
              <a:solidFill>
                <a:srgbClr val="000000"/>
              </a:solidFill>
              <a:latin typeface="Arial"/>
            </a:endParaRPr>
          </a:p>
          <a:p>
            <a:pPr marL="22860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4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CR or project life coverage ratio covers the residual cash flow of the project as well as the loan life perio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ule of thumb, the present value of the operating cash flows before tax should be 1.5x the debt amoun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ly the DSCR on a present value basi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numerator is the PV of the cash available for debt service, discounted at the pre-tax debt rat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denominator is the PV of debt service at the debt rate, which is the same as the initial debt issued for the projec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LCR does not have a standard definition – it would make most sense to use free cash flow rather than the numerator of the DSC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DSCR and Borrowing Base</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enor and Average Life</a:t>
            </a:r>
            <a:endParaRPr b="1" lang="en-US" sz="2000" spc="-1" strike="noStrike">
              <a:solidFill>
                <a:srgbClr val="000000"/>
              </a:solidFill>
              <a:latin typeface="Arial"/>
            </a:endParaRPr>
          </a:p>
        </p:txBody>
      </p:sp>
      <p:sp>
        <p:nvSpPr>
          <p:cNvPr id="4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6000"/>
          </a:bodyPr>
          <a:p>
            <a:pPr marL="389880" indent="-389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ders want to know how their risk reduces over the life of a project.</a:t>
            </a:r>
            <a:endParaRPr b="0" lang="en-US" sz="2000" spc="-1" strike="noStrike">
              <a:solidFill>
                <a:srgbClr val="000000"/>
              </a:solidFill>
              <a:latin typeface="Arial"/>
            </a:endParaRPr>
          </a:p>
          <a:p>
            <a:pPr marL="389880" indent="-389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loan was only for one year, the risks are less than a 20 year loan, if the cash flows are the same and the cash flow can support the debt repayment.</a:t>
            </a:r>
            <a:endParaRPr b="0" lang="en-US" sz="2000" spc="-1" strike="noStrike">
              <a:solidFill>
                <a:srgbClr val="000000"/>
              </a:solidFill>
              <a:latin typeface="Arial"/>
            </a:endParaRPr>
          </a:p>
          <a:p>
            <a:pPr marL="389880" indent="-389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oject finance, the risk associated with longer terms is measured by the average loan life. </a:t>
            </a:r>
            <a:endParaRPr b="0" lang="en-US" sz="2000" spc="-1" strike="noStrike">
              <a:solidFill>
                <a:srgbClr val="000000"/>
              </a:solidFill>
              <a:latin typeface="Arial"/>
            </a:endParaRPr>
          </a:p>
          <a:p>
            <a:pPr marL="389880" indent="-389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loan life is used in a similar manner to the payback period to check that the loan is not over-extended.</a:t>
            </a:r>
            <a:endParaRPr b="0" lang="en-US" sz="2000" spc="-1" strike="noStrike">
              <a:solidFill>
                <a:srgbClr val="000000"/>
              </a:solidFill>
              <a:latin typeface="Arial"/>
            </a:endParaRPr>
          </a:p>
          <a:p>
            <a:pPr marL="389880" indent="-389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loan life accounts for the manner in which a loan is paid back – if the loan has a bullet payment, the loan life is the same as the tenor.</a:t>
            </a:r>
            <a:endParaRPr b="0" lang="en-US" sz="2000" spc="-1" strike="noStrike">
              <a:solidFill>
                <a:srgbClr val="000000"/>
              </a:solidFill>
              <a:latin typeface="Arial"/>
            </a:endParaRPr>
          </a:p>
          <a:p>
            <a:pPr marL="389880" indent="-389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ula is simply the average outstanding amount of the loan divided by the initial balance of the loan.</a:t>
            </a:r>
            <a:endParaRPr b="0" lang="en-US" sz="20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s, Loan Pricing and Loan Value</a:t>
            </a:r>
            <a:endParaRPr b="1" lang="en-US" sz="20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  -- Note that Credit Spreads Increase When Default Rates Increase</a:t>
            </a:r>
            <a:endParaRPr b="1" lang="en-US" sz="2000" spc="-1" strike="noStrike">
              <a:solidFill>
                <a:srgbClr val="000000"/>
              </a:solidFill>
              <a:latin typeface="Arial"/>
            </a:endParaRPr>
          </a:p>
        </p:txBody>
      </p:sp>
      <p:pic>
        <p:nvPicPr>
          <p:cNvPr id="441"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3" descr=""/>
          <p:cNvPicPr/>
          <p:nvPr/>
        </p:nvPicPr>
        <p:blipFill>
          <a:blip r:embed="rId1"/>
          <a:stretch/>
        </p:blipFill>
        <p:spPr>
          <a:xfrm>
            <a:off x="838080" y="2089080"/>
            <a:ext cx="7010640" cy="4083120"/>
          </a:xfrm>
          <a:prstGeom prst="rect">
            <a:avLst/>
          </a:prstGeom>
          <a:ln w="0">
            <a:noFill/>
          </a:ln>
        </p:spPr>
      </p:pic>
      <p:sp>
        <p:nvSpPr>
          <p:cNvPr id="443" name="Line 4"/>
          <p:cNvSpPr/>
          <p:nvPr/>
        </p:nvSpPr>
        <p:spPr>
          <a:xfrm flipV="1">
            <a:off x="4876920" y="3048120"/>
            <a:ext cx="144756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Text Box 5"/>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445" name="Picture 7" descr=""/>
          <p:cNvPicPr/>
          <p:nvPr/>
        </p:nvPicPr>
        <p:blipFill>
          <a:blip r:embed="rId2"/>
          <a:stretch/>
        </p:blipFill>
        <p:spPr>
          <a:xfrm>
            <a:off x="5257800" y="228600"/>
            <a:ext cx="3686040" cy="2257560"/>
          </a:xfrm>
          <a:prstGeom prst="rect">
            <a:avLst/>
          </a:prstGeom>
          <a:ln w="0">
            <a:noFill/>
          </a:ln>
        </p:spPr>
      </p:pic>
      <p:sp>
        <p:nvSpPr>
          <p:cNvPr id="446" name="Line 8"/>
          <p:cNvSpPr/>
          <p:nvPr/>
        </p:nvSpPr>
        <p:spPr>
          <a:xfrm flipV="1">
            <a:off x="6858000" y="1523880"/>
            <a:ext cx="1219320" cy="289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Text Box 9"/>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448" name="Picture 10" descr=""/>
          <p:cNvPicPr/>
          <p:nvPr/>
        </p:nvPicPr>
        <p:blipFill>
          <a:blip r:embed="rId3"/>
          <a:stretch/>
        </p:blipFill>
        <p:spPr>
          <a:xfrm>
            <a:off x="0" y="0"/>
            <a:ext cx="3657600" cy="2428920"/>
          </a:xfrm>
          <a:prstGeom prst="rect">
            <a:avLst/>
          </a:prstGeom>
          <a:ln w="0">
            <a:noFill/>
          </a:ln>
        </p:spPr>
      </p:pic>
      <p:sp>
        <p:nvSpPr>
          <p:cNvPr id="4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Yield Spread</a:t>
            </a:r>
            <a:endParaRPr b="1" lang="en-US" sz="2000" spc="-1" strike="noStrike">
              <a:solidFill>
                <a:srgbClr val="000000"/>
              </a:solidFill>
              <a:latin typeface="Arial"/>
            </a:endParaRPr>
          </a:p>
        </p:txBody>
      </p:sp>
      <p:sp>
        <p:nvSpPr>
          <p:cNvPr id="45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classification is very important in establishing the access to funding and the cost of funding as illustrated on the graphs below:</a:t>
            </a:r>
            <a:endParaRPr b="0" lang="en-US" sz="2000" spc="-1" strike="noStrike">
              <a:solidFill>
                <a:srgbClr val="000000"/>
              </a:solidFill>
              <a:latin typeface="Arial"/>
            </a:endParaRPr>
          </a:p>
        </p:txBody>
      </p:sp>
      <p:pic>
        <p:nvPicPr>
          <p:cNvPr id="452" name="Picture 4" descr="bond_yields"/>
          <p:cNvPicPr/>
          <p:nvPr/>
        </p:nvPicPr>
        <p:blipFill>
          <a:blip r:embed="rId1"/>
          <a:stretch/>
        </p:blipFill>
        <p:spPr>
          <a:xfrm>
            <a:off x="304920" y="2438280"/>
            <a:ext cx="3929040" cy="3345120"/>
          </a:xfrm>
          <a:prstGeom prst="rect">
            <a:avLst/>
          </a:prstGeom>
          <a:ln w="0">
            <a:noFill/>
          </a:ln>
        </p:spPr>
      </p:pic>
      <p:pic>
        <p:nvPicPr>
          <p:cNvPr id="453" name="Picture 5" descr="bond_yields1"/>
          <p:cNvPicPr/>
          <p:nvPr/>
        </p:nvPicPr>
        <p:blipFill>
          <a:blip r:embed="rId2"/>
          <a:stretch/>
        </p:blipFill>
        <p:spPr>
          <a:xfrm>
            <a:off x="4343400" y="2444760"/>
            <a:ext cx="4267080" cy="328140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Bond Spreads</a:t>
            </a:r>
            <a:endParaRPr b="1" lang="en-US" sz="2000" spc="-1" strike="noStrike">
              <a:solidFill>
                <a:srgbClr val="000000"/>
              </a:solidFill>
              <a:latin typeface="Arial"/>
            </a:endParaRPr>
          </a:p>
        </p:txBody>
      </p:sp>
      <p:sp>
        <p:nvSpPr>
          <p:cNvPr id="45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s an example of bond spreads at a point in time (bondsonline.com).  These spreads change over tim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6" name="Picture 4" descr=""/>
          <p:cNvPicPr/>
          <p:nvPr/>
        </p:nvPicPr>
        <p:blipFill>
          <a:blip r:embed="rId1"/>
          <a:stretch/>
        </p:blipFill>
        <p:spPr>
          <a:xfrm>
            <a:off x="1066680" y="2590920"/>
            <a:ext cx="7010640" cy="3541680"/>
          </a:xfrm>
          <a:prstGeom prst="rect">
            <a:avLst/>
          </a:prstGeom>
          <a:ln w="0">
            <a:noFill/>
          </a:ln>
        </p:spPr>
      </p:pic>
      <p:sp>
        <p:nvSpPr>
          <p:cNvPr id="457" name="Text Box 5"/>
          <p:cNvSpPr/>
          <p:nvPr/>
        </p:nvSpPr>
        <p:spPr>
          <a:xfrm>
            <a:off x="6019920" y="312408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Jump at BB+ to BB</a:t>
            </a:r>
            <a:endParaRPr b="0" lang="en-US" sz="1200" spc="-1" strike="noStrike">
              <a:solidFill>
                <a:srgbClr val="000000"/>
              </a:solidFill>
              <a:latin typeface="Arial"/>
            </a:endParaRPr>
          </a:p>
        </p:txBody>
      </p:sp>
      <p:sp>
        <p:nvSpPr>
          <p:cNvPr id="458" name="Line 6"/>
          <p:cNvSpPr/>
          <p:nvPr/>
        </p:nvSpPr>
        <p:spPr>
          <a:xfrm flipH="1">
            <a:off x="3352680" y="3581280"/>
            <a:ext cx="243864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461"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462"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463"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465"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466"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4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y of Credit Spreads: Credit Spread on Debt Facilities</a:t>
            </a:r>
            <a:endParaRPr b="1" lang="en-US" sz="2000" spc="-1" strike="noStrike">
              <a:solidFill>
                <a:srgbClr val="000000"/>
              </a:solidFill>
              <a:latin typeface="Arial"/>
            </a:endParaRPr>
          </a:p>
        </p:txBody>
      </p:sp>
      <p:sp>
        <p:nvSpPr>
          <p:cNvPr id="46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read on a loan is directly related to the probability of default and the loss, given default.</a:t>
            </a:r>
            <a:endParaRPr b="0" lang="en-US" sz="20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L Example</a:t>
            </a:r>
            <a:endParaRPr b="1" lang="en-US" sz="2000" spc="-1" strike="noStrike">
              <a:solidFill>
                <a:srgbClr val="000000"/>
              </a:solidFill>
              <a:latin typeface="Arial"/>
            </a:endParaRPr>
          </a:p>
        </p:txBody>
      </p:sp>
      <p:sp>
        <p:nvSpPr>
          <p:cNvPr id="11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Amount $370 Mill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serve to Cover Expenses $14 Mill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Leverage – 52%</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 700 MW</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PPA Tariff: $35/MWH (Excludes production tax credit)</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rojects already completed and FPL guarantees completion (limited construction risk)</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 Loa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Leverage – 65%</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ubordinated Debt – Total of 83% Financing</a:t>
            </a:r>
            <a:endParaRPr b="0" lang="en-US" sz="1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70"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71"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72"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73"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74"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75"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76"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477"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478"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479"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480"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484"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4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48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8" name="Picture 5"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49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1" name="Picture 4"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4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hart shows rating migrations and the probability of default for alternative loans.  Note the increase in default probability with longer loans.</a:t>
            </a:r>
            <a:endParaRPr b="0" lang="en-US" sz="2000" spc="-1" strike="noStrike">
              <a:solidFill>
                <a:srgbClr val="000000"/>
              </a:solidFill>
              <a:latin typeface="Arial"/>
            </a:endParaRPr>
          </a:p>
        </p:txBody>
      </p:sp>
      <p:pic>
        <p:nvPicPr>
          <p:cNvPr id="49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496" name="Picture 3" descr=""/>
          <p:cNvPicPr/>
          <p:nvPr/>
        </p:nvPicPr>
        <p:blipFill>
          <a:blip r:embed="rId1"/>
          <a:stretch/>
        </p:blipFill>
        <p:spPr>
          <a:xfrm>
            <a:off x="1495440" y="1523880"/>
            <a:ext cx="6381720" cy="4572000"/>
          </a:xfrm>
          <a:prstGeom prst="rect">
            <a:avLst/>
          </a:prstGeom>
          <a:ln w="0">
            <a:noFill/>
          </a:ln>
        </p:spPr>
      </p:pic>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rket participants consistently report lower default rates, and especially lower loss rates on project finance than on other equivalent corporate exposure, largely because of the effect of transaction structuring and transparency and control of collateral.</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ject finance transactions are by their nature, complex and require a strong understanding of the underlying markets and their risk drivers.  Only a limited number of banks have dedicated project finance credit team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Default History</a:t>
            </a:r>
            <a:endParaRPr b="1" lang="en-US" sz="20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ability of Default for Project Finance</a:t>
            </a:r>
            <a:endParaRPr b="1" lang="en-US" sz="2000" spc="-1" strike="noStrike">
              <a:solidFill>
                <a:srgbClr val="000000"/>
              </a:solidFill>
              <a:latin typeface="Arial"/>
            </a:endParaRPr>
          </a:p>
        </p:txBody>
      </p:sp>
      <p:pic>
        <p:nvPicPr>
          <p:cNvPr id="500" name="Picture 2" descr=""/>
          <p:cNvPicPr/>
          <p:nvPr/>
        </p:nvPicPr>
        <p:blipFill>
          <a:blip r:embed="rId1"/>
          <a:stretch/>
        </p:blipFill>
        <p:spPr>
          <a:xfrm>
            <a:off x="1676520" y="1523880"/>
            <a:ext cx="5562360" cy="455616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502"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504"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575"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576"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577"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578"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579"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580"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581"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582"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583"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584"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585"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586"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587"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588"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589"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590"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591"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592"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593"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594"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595"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596"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597"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598"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599"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600"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601"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602"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603"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604"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605"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606"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607"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608"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609"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610"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611"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612"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613"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614"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615"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616"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617"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618"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619"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620"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621"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622"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623"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624"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625"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626"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627"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628"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629"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630"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631"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632"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633"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634"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635"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636"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637"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638"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639"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640"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641"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642"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643" name="Group 142"/>
          <p:cNvGrpSpPr/>
          <p:nvPr/>
        </p:nvGrpSpPr>
        <p:grpSpPr>
          <a:xfrm>
            <a:off x="909720" y="4774680"/>
            <a:ext cx="7629120" cy="79560"/>
            <a:chOff x="909720" y="4774680"/>
            <a:chExt cx="7629120" cy="79560"/>
          </a:xfrm>
        </p:grpSpPr>
        <p:sp>
          <p:nvSpPr>
            <p:cNvPr id="644"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46"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647"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6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a:t>
            </a:r>
            <a:endParaRPr b="1" lang="en-US" sz="2000" spc="-1" strike="noStrike">
              <a:solidFill>
                <a:srgbClr val="000000"/>
              </a:solidFill>
              <a:latin typeface="Arial"/>
            </a:endParaRPr>
          </a:p>
        </p:txBody>
      </p:sp>
      <p:sp>
        <p:nvSpPr>
          <p:cNvPr id="6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below shows the default rates in a study conducted for Basel II</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1" name="Picture 4" descr=""/>
          <p:cNvPicPr/>
          <p:nvPr/>
        </p:nvPicPr>
        <p:blipFill>
          <a:blip r:embed="rId1"/>
          <a:stretch/>
        </p:blipFill>
        <p:spPr>
          <a:xfrm>
            <a:off x="2743200" y="2108160"/>
            <a:ext cx="5257800" cy="379728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bursement Controls and Basic Covenants</a:t>
            </a:r>
            <a:endParaRPr b="1" lang="en-US" sz="2000" spc="-1" strike="noStrike">
              <a:solidFill>
                <a:srgbClr val="000000"/>
              </a:solidFill>
              <a:latin typeface="Arial"/>
            </a:endParaRPr>
          </a:p>
        </p:txBody>
      </p:sp>
      <p:sp>
        <p:nvSpPr>
          <p:cNvPr id="12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bursement controls in the form of conditions precedent to each drawdown under the construction loan, such as requiring the borrower to present invoices, builders' certificates or other evidence as to the need and purpose for which funds will be used.</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rower covenants not to amend or waive any of its rights under the principal project agreements without the consent of the lender.</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rower completion covenants requiring the borrower to complete the project in accordance with project plans and specifications and prohibiting material alterations without the consent of the lender. </a:t>
            </a:r>
            <a:endParaRPr b="0" lang="en-US" sz="20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ulim"/>
              </a:rPr>
              <a:t>Recovery rates</a:t>
            </a:r>
            <a:endParaRPr b="1" lang="en-US" sz="2000" spc="-1" strike="noStrike">
              <a:solidFill>
                <a:srgbClr val="000000"/>
              </a:solidFill>
              <a:latin typeface="Arial"/>
            </a:endParaRPr>
          </a:p>
        </p:txBody>
      </p:sp>
      <p:sp>
        <p:nvSpPr>
          <p:cNvPr id="65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ng recovery rates</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market or highly illiquid market</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ediately upon announcement of default, after some reasonable period for information to become available, or after a full settlement has been reached</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ond</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classes are appreciably different from one another in recovery realization</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between secured vs. unsecured senior is not statistically significant</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ank facilities</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facilities( loans, commitments, letter of credit) are senior to all public senior bonds</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ruptcy law and practices differs from jurisdiction to jurisdiction</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 of recovery rates</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wide uncertainty</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a distribution </a:t>
            </a:r>
            <a:endParaRPr b="0" lang="en-US" sz="14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655" name="Picture 4" descr=""/>
          <p:cNvPicPr/>
          <p:nvPr/>
        </p:nvPicPr>
        <p:blipFill>
          <a:blip r:embed="rId1"/>
          <a:stretch/>
        </p:blipFill>
        <p:spPr>
          <a:xfrm>
            <a:off x="3057480" y="457200"/>
            <a:ext cx="5540400" cy="579132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atios</a:t>
            </a:r>
            <a:endParaRPr b="1" lang="en-US" sz="2000" spc="-1" strike="noStrike">
              <a:solidFill>
                <a:srgbClr val="000000"/>
              </a:solidFill>
              <a:latin typeface="Arial"/>
            </a:endParaRPr>
          </a:p>
        </p:txBody>
      </p:sp>
      <p:sp>
        <p:nvSpPr>
          <p:cNvPr id="65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rom operations before debt service (CFO)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minus cash expenses, including taxes, but excluding debt servic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ebt service coverage ratio (MDSCR)</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CFO to annual principal and interest payment ratio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minimum DSCR (STDSCR)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DSCR over the next three year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bt service coverage ratio (ADSCR)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annual DSCRs through debt maturity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 (LLCR)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remaining present value CFOs divided by outstanding principal balance</a:t>
            </a:r>
            <a:endParaRPr b="0" lang="en-US" sz="16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Pricing</a:t>
            </a:r>
            <a:endParaRPr b="1" lang="en-US" sz="2000" spc="-1" strike="noStrike">
              <a:solidFill>
                <a:srgbClr val="000000"/>
              </a:solidFill>
              <a:latin typeface="Arial"/>
            </a:endParaRPr>
          </a:p>
        </p:txBody>
      </p:sp>
      <p:pic>
        <p:nvPicPr>
          <p:cNvPr id="659" name="Picture 3" descr=""/>
          <p:cNvPicPr/>
          <p:nvPr/>
        </p:nvPicPr>
        <p:blipFill>
          <a:blip r:embed="rId1"/>
          <a:stretch/>
        </p:blipFill>
        <p:spPr>
          <a:xfrm>
            <a:off x="762120" y="2660760"/>
            <a:ext cx="7848360" cy="2298600"/>
          </a:xfrm>
          <a:prstGeom prst="rect">
            <a:avLst/>
          </a:prstGeom>
          <a:ln w="0">
            <a:noFill/>
          </a:ln>
        </p:spPr>
      </p:pic>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s on Project Finance Loans</a:t>
            </a:r>
            <a:endParaRPr b="1" lang="en-US" sz="2000" spc="-1" strike="noStrike">
              <a:solidFill>
                <a:srgbClr val="000000"/>
              </a:solidFill>
              <a:latin typeface="Arial"/>
            </a:endParaRPr>
          </a:p>
        </p:txBody>
      </p:sp>
      <p:sp>
        <p:nvSpPr>
          <p:cNvPr id="66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of default and the loss given default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default through 2002 – 13.3%</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defaults in 2002 from telcom and merchant power</a:t>
            </a:r>
            <a:endParaRPr b="0" lang="en-US" sz="1800" spc="-1" strike="noStrike">
              <a:solidFill>
                <a:srgbClr val="000000"/>
              </a:solidFill>
              <a:latin typeface="Arial"/>
            </a:endParaRPr>
          </a:p>
          <a:p>
            <a:pPr lvl="1" marL="635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2" name="Picture 4" descr=""/>
          <p:cNvPicPr/>
          <p:nvPr/>
        </p:nvPicPr>
        <p:blipFill>
          <a:blip r:embed="rId1"/>
          <a:stretch/>
        </p:blipFill>
        <p:spPr>
          <a:xfrm>
            <a:off x="2362320" y="3228840"/>
            <a:ext cx="4752720" cy="296388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 – Pre 2003</a:t>
            </a:r>
            <a:endParaRPr b="1" lang="en-US" sz="2000" spc="-1" strike="noStrike">
              <a:solidFill>
                <a:srgbClr val="000000"/>
              </a:solidFill>
              <a:latin typeface="Arial"/>
            </a:endParaRPr>
          </a:p>
        </p:txBody>
      </p:sp>
      <p:sp>
        <p:nvSpPr>
          <p:cNvPr id="66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approache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 and LGD defined from four supervisory ratings categories</a:t>
            </a:r>
            <a:endParaRPr b="0" lang="en-US" sz="16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or other risk parameters and uses basic approach for other parameters</a:t>
            </a:r>
            <a:endParaRPr b="0" lang="en-US" sz="16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LGD, EAD</a:t>
            </a:r>
            <a:endParaRPr b="0" lang="en-US" sz="16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ion of LGD and PD</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GD 2001: Initial evidence on realised losses suggests that losses during difficult periods exceeds those of senior, unsecured corporate exposures.</a:t>
            </a:r>
            <a:endParaRPr b="0" lang="en-US" sz="20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669"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670"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673"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675"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676" name="Text Box 15"/>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677" name="Text Box 16"/>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Text Box 17"/>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Text Box 18"/>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680" name="Text Box 19"/>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681" name="Line 21"/>
          <p:cNvSpPr/>
          <p:nvPr/>
        </p:nvSpPr>
        <p:spPr>
          <a:xfrm flipH="1">
            <a:off x="4343040" y="3581280"/>
            <a:ext cx="2286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688"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689"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690"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691"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692"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693"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694" name="Line 14"/>
          <p:cNvSpPr/>
          <p:nvPr/>
        </p:nvSpPr>
        <p:spPr>
          <a:xfrm flipH="1">
            <a:off x="4419360" y="2362320"/>
            <a:ext cx="10666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com DSCR Criteria (Reference)</a:t>
            </a:r>
            <a:endParaRPr b="1" lang="en-US" sz="2000" spc="-1" strike="noStrike">
              <a:solidFill>
                <a:srgbClr val="000000"/>
              </a:solidFill>
              <a:latin typeface="Arial"/>
            </a:endParaRPr>
          </a:p>
        </p:txBody>
      </p:sp>
      <p:sp>
        <p:nvSpPr>
          <p:cNvPr id="69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amp; Poor’s believes that a project’s credit is generally strengthened by covenants that limit, or even preclude, distributions to sponsors unless both robust historic and projected DSCRs are met, and reserve funds are fully funded.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merchant-type risk associated with most telecom deals, Standard &amp; Poor’s would generally require that distribution test DSCRs be computed on a 12-months-back and 24-months-forward basis, using forecasts made by independent consultants, and be at least 2 times (x) for low speculative- and investment-grade projects. </a:t>
            </a:r>
            <a:endParaRPr b="0" lang="en-US" sz="20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6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mp; Poor's considers that minimum DSCR threshold tests for most contract-driven projects to be around </a:t>
            </a:r>
            <a:r>
              <a:rPr b="0" lang="en-US" sz="1600" spc="-1" strike="noStrike">
                <a:solidFill>
                  <a:srgbClr val="3399ff"/>
                </a:solidFill>
                <a:latin typeface="Arial"/>
              </a:rPr>
              <a:t>1.30 times (x),</a:t>
            </a:r>
            <a:r>
              <a:rPr b="0" lang="en-US" sz="1600" spc="-1" strike="noStrike">
                <a:solidFill>
                  <a:srgbClr val="000000"/>
                </a:solidFill>
                <a:latin typeface="Arial"/>
              </a:rPr>
              <a:t> provided that this figure holds under stress analysis.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levels are too low for merchant projects. Instead, minimum DSCR levels for equity distributions may need to exceed </a:t>
            </a:r>
            <a:r>
              <a:rPr b="0" lang="en-US" sz="1600" spc="-1" strike="noStrike">
                <a:solidFill>
                  <a:srgbClr val="3399ff"/>
                </a:solidFill>
                <a:latin typeface="Arial"/>
              </a:rPr>
              <a:t>1.70x</a:t>
            </a:r>
            <a:r>
              <a:rPr b="0" lang="en-US" sz="1600" spc="-1" strike="noStrike">
                <a:solidFill>
                  <a:srgbClr val="000000"/>
                </a:solidFill>
                <a:latin typeface="Arial"/>
              </a:rPr>
              <a:t> for investment-grade transactions, depending on the industry.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one financial institution suggests that under base case assumptions the DSC should show not less than </a:t>
            </a:r>
            <a:r>
              <a:rPr b="0" lang="en-US" sz="1600" spc="-1" strike="noStrike">
                <a:solidFill>
                  <a:srgbClr val="3399ff"/>
                </a:solidFill>
                <a:latin typeface="Arial"/>
              </a:rPr>
              <a:t>1.2:1 </a:t>
            </a:r>
            <a:r>
              <a:rPr b="0" lang="en-US" sz="1600" spc="-1" strike="noStrike">
                <a:solidFill>
                  <a:srgbClr val="000000"/>
                </a:solidFill>
                <a:latin typeface="Arial"/>
              </a:rPr>
              <a:t>for every year of operation during the loan life, and no less than 1.4 on average.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a Downside Case, with up to 5 years added to the repayment period, the DSC should be no less than 1.0:1 for every year or less than </a:t>
            </a:r>
            <a:r>
              <a:rPr b="0" lang="en-US" sz="1600" spc="-1" strike="noStrike">
                <a:solidFill>
                  <a:srgbClr val="3399ff"/>
                </a:solidFill>
                <a:latin typeface="Arial"/>
              </a:rPr>
              <a:t>1.15:1</a:t>
            </a:r>
            <a:r>
              <a:rPr b="0" lang="en-US" sz="1600" spc="-1" strike="noStrike">
                <a:solidFill>
                  <a:srgbClr val="000000"/>
                </a:solidFill>
                <a:latin typeface="Arial"/>
              </a:rPr>
              <a:t> on average during the life of the loa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with merchant exposure may find that leverage cannot exceed </a:t>
            </a:r>
            <a:r>
              <a:rPr b="0" lang="en-US" sz="1600" spc="-1" strike="noStrike">
                <a:solidFill>
                  <a:srgbClr val="0066ff"/>
                </a:solidFill>
                <a:latin typeface="Arial"/>
              </a:rPr>
              <a:t>50%</a:t>
            </a:r>
            <a:r>
              <a:rPr b="0" lang="en-US" sz="1600" spc="-1" strike="noStrike">
                <a:solidFill>
                  <a:srgbClr val="000000"/>
                </a:solidFill>
                <a:latin typeface="Arial"/>
              </a:rPr>
              <a:t> if investment-grade rated debt is sought.  On the other hand, contract-revenue driven projects, on the other hand, typically have had leverage levels around </a:t>
            </a:r>
            <a:r>
              <a:rPr b="0" lang="en-US" sz="1600" spc="-1" strike="noStrike">
                <a:solidFill>
                  <a:srgbClr val="0066ff"/>
                </a:solidFill>
                <a:latin typeface="Arial"/>
              </a:rPr>
              <a:t>70% to 80%.</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that Restrict Dividends and Additional Debt</a:t>
            </a:r>
            <a:endParaRPr b="1" lang="en-US" sz="2000" spc="-1" strike="noStrike">
              <a:solidFill>
                <a:srgbClr val="000000"/>
              </a:solidFill>
              <a:latin typeface="Arial"/>
            </a:endParaRPr>
          </a:p>
        </p:txBody>
      </p:sp>
      <p:sp>
        <p:nvSpPr>
          <p:cNvPr id="1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er covenants restricting the payment of dividends or other distributions by the borrower during construction and, thereafter, only after satisfaction of required debt service and other reserves, debt service coverage ratios and certification of no existing default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er covenants prohibiting incurring of additional liens and debt or issuing guarante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 that project participants affiliated with the project sponsors enter into subordination agreements under which certain payments to such participants from the borrower under project agreements are restricted (either absolutely or partially) and made subordinate to the payment of debt servi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loan typically will be secured by all project assets, including a mortgage on the project facilities and real property; assignment of operating revenues; liens on all personal property; and assignment of all project agreements and project permits, including any letters of credit or performance bonds to which the borrower is the beneficiary.</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inancing on the Required Cost of Electricity</a:t>
            </a:r>
            <a:endParaRPr b="1" lang="en-US" sz="2000" spc="-1" strike="noStrike">
              <a:solidFill>
                <a:srgbClr val="000000"/>
              </a:solidFill>
              <a:latin typeface="Arial"/>
            </a:endParaRPr>
          </a:p>
        </p:txBody>
      </p:sp>
      <p:pic>
        <p:nvPicPr>
          <p:cNvPr id="700" name="Picture 4" descr=""/>
          <p:cNvPicPr/>
          <p:nvPr/>
        </p:nvPicPr>
        <p:blipFill>
          <a:blip r:embed="rId1"/>
          <a:stretch/>
        </p:blipFill>
        <p:spPr>
          <a:xfrm>
            <a:off x="1135080" y="1523880"/>
            <a:ext cx="7101000" cy="4572000"/>
          </a:xfrm>
          <a:prstGeom prst="rect">
            <a:avLst/>
          </a:prstGeom>
          <a:ln w="0">
            <a:noFill/>
          </a:ln>
        </p:spPr>
      </p:pic>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1" name=""/>
          <p:cNvGraphicFramePr/>
          <p:nvPr/>
        </p:nvGraphicFramePr>
        <p:xfrm>
          <a:off x="914400" y="1371600"/>
          <a:ext cx="6748560" cy="4191120"/>
        </p:xfrm>
        <a:graphic>
          <a:graphicData uri="http://schemas.openxmlformats.org/drawingml/2006/table">
            <a:tbl>
              <a:tblPr/>
              <a:tblGrid>
                <a:gridCol w="773280"/>
                <a:gridCol w="507960"/>
                <a:gridCol w="5467320"/>
              </a:tblGrid>
              <a:tr h="24120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the highest rating.  Capacity to pay interest and principal is extremely strong.  Regarded as having maximum safety and gilt-edg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very strong capacity to pay interest and repay principal.  Regarded as ‘high-qualit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9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strong capacity to repay interest and principal.  However, it is somewhat susceptible to adverse changes in circumstances and economic conditions.  Regarded as upper-medium grade in terms of creditworthines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796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is regarded as having adequate capacity to pay interest and repay principal.  Whereas it normally exhibits adequate protection parameters, adverse economic conditions or changing circumstances may lead to a weakened capacity to pay interest and repay principal for debt.  These bonds/loans are lower-medium grade in therms of creditworthiness.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Grad Bond Ratings</a:t>
            </a:r>
            <a:endParaRPr b="1" lang="en-US" sz="20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3" name=""/>
          <p:cNvGraphicFramePr/>
          <p:nvPr/>
        </p:nvGraphicFramePr>
        <p:xfrm>
          <a:off x="1143000" y="1676520"/>
          <a:ext cx="6902280" cy="3651120"/>
        </p:xfrm>
        <a:graphic>
          <a:graphicData uri="http://schemas.openxmlformats.org/drawingml/2006/table">
            <a:tbl>
              <a:tblPr/>
              <a:tblGrid>
                <a:gridCol w="685800"/>
                <a:gridCol w="625320"/>
                <a:gridCol w="5591160"/>
              </a:tblGrid>
              <a:tr h="49212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ebt rated in the categories below are regarded as low grade and predominantly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ability of these entities to meet obligations may be moderate and not well safeguarded in the future. The lowest degree of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issues offer poor financial security.  Assurance of payment of obligations over the long term is small.</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4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Very poor financial security.  They may be in default of their obligations or there may be dangers present with respect to timely debt repaym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entities are often in default or have other marked shortcomings.  The highest degree of speculatio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is rating is preserved for debt that may have substantial risk; be in default; or extremely speculative. Potential recovery values are l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debt is in default and payment of interest and/or repayment of principal is in arrear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4" name="Text Box 36"/>
          <p:cNvSpPr/>
          <p:nvPr/>
        </p:nvSpPr>
        <p:spPr>
          <a:xfrm rot="16200000">
            <a:off x="-810000" y="3691080"/>
            <a:ext cx="280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ment-grade cutoff</a:t>
            </a:r>
            <a:endParaRPr b="0" lang="en-US" sz="2000" spc="-1" strike="noStrike">
              <a:solidFill>
                <a:srgbClr val="000000"/>
              </a:solidFill>
              <a:latin typeface="Arial"/>
            </a:endParaRPr>
          </a:p>
        </p:txBody>
      </p:sp>
      <p:sp>
        <p:nvSpPr>
          <p:cNvPr id="7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Investment Grade Bond Ratings</a:t>
            </a:r>
            <a:endParaRPr b="1" lang="en-US" sz="18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Financial Ratios</a:t>
            </a:r>
            <a:endParaRPr b="1" lang="en-US" sz="2000" spc="-1" strike="noStrike">
              <a:solidFill>
                <a:srgbClr val="000000"/>
              </a:solidFill>
              <a:latin typeface="Arial"/>
            </a:endParaRPr>
          </a:p>
        </p:txBody>
      </p:sp>
      <p:pic>
        <p:nvPicPr>
          <p:cNvPr id="707"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 FPL Example</a:t>
            </a:r>
            <a:endParaRPr b="1" lang="en-US" sz="2000" spc="-1" strike="noStrike">
              <a:solidFill>
                <a:srgbClr val="000000"/>
              </a:solidFill>
              <a:latin typeface="Arial"/>
            </a:endParaRPr>
          </a:p>
        </p:txBody>
      </p:sp>
      <p:sp>
        <p:nvSpPr>
          <p:cNvPr id="12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flow of funds is not standard but acceptable. American Wind will repay debt once annually, due in part to the annual variation of wind and thus power production. However, the issuer desires to make bi-annual distributions, and has structured the flow of funds accordingly.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trustee allocates funds monthly in the following priority;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amp;M expenses,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debt service fund (1/12 of the debt service requirement),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ebt service reserve,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ajor maintenance reserve,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pecial O&amp;M reserve,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n optional additional payment into the debt service fund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payment on permitted debt (other than senior secured obligations). </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and Re-Financing</a:t>
            </a:r>
            <a:endParaRPr b="1" lang="en-US" sz="2000" spc="-1" strike="noStrike">
              <a:solidFill>
                <a:srgbClr val="000000"/>
              </a:solidFill>
              <a:latin typeface="Arial"/>
            </a:endParaRPr>
          </a:p>
        </p:txBody>
      </p:sp>
      <p:pic>
        <p:nvPicPr>
          <p:cNvPr id="127" name="Picture 4" descr=""/>
          <p:cNvPicPr/>
          <p:nvPr/>
        </p:nvPicPr>
        <p:blipFill>
          <a:blip r:embed="rId1"/>
          <a:stretch/>
        </p:blipFill>
        <p:spPr>
          <a:xfrm>
            <a:off x="1541520" y="1523880"/>
            <a:ext cx="6289560" cy="457200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ling of Renewable Resources</a:t>
            </a:r>
            <a:endParaRPr b="1"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13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ead start for those who have not created models and will have to learn the hard wa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ful ideas to experienced model builders in designing and structuring more efficient, stable, transparent and accurate models.  </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3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20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3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n Greenspan, Financial Times.  </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Taleb:</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 in Private Analysis</a:t>
            </a:r>
            <a:endParaRPr b="1" lang="en-US" sz="2000" spc="-1" strike="noStrike">
              <a:solidFill>
                <a:srgbClr val="000000"/>
              </a:solidFill>
              <a:latin typeface="Arial"/>
            </a:endParaRPr>
          </a:p>
        </p:txBody>
      </p:sp>
      <p:sp>
        <p:nvSpPr>
          <p:cNvPr id="100" name="PlaceHolder 2"/>
          <p:cNvSpPr>
            <a:spLocks noGrp="1"/>
          </p:cNvSpPr>
          <p:nvPr>
            <p:ph/>
          </p:nvPr>
        </p:nvSpPr>
        <p:spPr>
          <a:xfrm>
            <a:off x="761760" y="1295280"/>
            <a:ext cx="7010280" cy="1067040"/>
          </a:xfrm>
          <a:prstGeom prst="rect">
            <a:avLst/>
          </a:prstGeom>
          <a:noFill/>
          <a:ln w="0">
            <a:noFill/>
          </a:ln>
        </p:spPr>
        <p:txBody>
          <a:bodyPr lIns="92160" rIns="92160" tIns="46080" bIns="46080" anchor="t">
            <a:normAutofit fontScale="94000"/>
          </a:bodyPr>
          <a:p>
            <a:pPr marL="381960" indent="-38196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 below illustrates the type of terms that are in renewable project finance transactions.</a:t>
            </a:r>
            <a:endParaRPr b="0" lang="en-US" sz="2400" spc="-1" strike="noStrike">
              <a:solidFill>
                <a:srgbClr val="000000"/>
              </a:solidFill>
              <a:latin typeface="Arial"/>
            </a:endParaRPr>
          </a:p>
          <a:p>
            <a:pPr marL="38196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Picture 4" descr=""/>
          <p:cNvPicPr/>
          <p:nvPr/>
        </p:nvPicPr>
        <p:blipFill>
          <a:blip r:embed="rId1"/>
          <a:stretch/>
        </p:blipFill>
        <p:spPr>
          <a:xfrm>
            <a:off x="1219320" y="2590920"/>
            <a:ext cx="6705360" cy="371448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Objectives of Model Analysis</a:t>
            </a:r>
            <a:endParaRPr b="1" lang="en-US" sz="2000" spc="-1" strike="noStrike">
              <a:solidFill>
                <a:srgbClr val="000000"/>
              </a:solidFill>
              <a:latin typeface="Arial"/>
            </a:endParaRPr>
          </a:p>
        </p:txBody>
      </p:sp>
      <p:sp>
        <p:nvSpPr>
          <p:cNvPr id="1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lvl="1" marL="635040" indent="16524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creen projects and value projects</a:t>
            </a:r>
            <a:endParaRPr b="0" lang="en-US" sz="2400" spc="-1" strike="noStrike">
              <a:solidFill>
                <a:srgbClr val="000000"/>
              </a:solidFill>
              <a:latin typeface="Arial"/>
            </a:endParaRPr>
          </a:p>
          <a:p>
            <a:pPr lvl="1" marL="635040" indent="16524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tructure the financing of projects</a:t>
            </a:r>
            <a:endParaRPr b="0" lang="en-US" sz="2400" spc="-1" strike="noStrike">
              <a:solidFill>
                <a:srgbClr val="000000"/>
              </a:solidFill>
              <a:latin typeface="Arial"/>
            </a:endParaRPr>
          </a:p>
          <a:p>
            <a:pPr lvl="1" marL="635040" indent="16524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analyze risk using models</a:t>
            </a:r>
            <a:endParaRPr b="0" lang="en-US" sz="2400" spc="-1" strike="noStrike">
              <a:solidFill>
                <a:srgbClr val="000000"/>
              </a:solidFill>
              <a:latin typeface="Arial"/>
            </a:endParaRPr>
          </a:p>
          <a:p>
            <a:pPr lvl="1" marL="635040" indent="16524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develop detailed financing provisions</a:t>
            </a:r>
            <a:endParaRPr b="0" lang="en-US" sz="2400" spc="-1" strike="noStrike">
              <a:solidFill>
                <a:srgbClr val="000000"/>
              </a:solidFill>
              <a:latin typeface="Arial"/>
            </a:endParaRPr>
          </a:p>
          <a:p>
            <a:pPr lvl="1" marL="635040" indent="16524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atabase of information on the project</a:t>
            </a:r>
            <a:endParaRPr b="0" lang="en-US" sz="24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veloping the structure and layout of alternative types of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otes on model structure, programming practices and model perio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Organizing time periods in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alue drivers and model inpu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bt modules -- sweeps, traps, defaults and debt IR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xed asset modules and depreciation and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come statement and tax schedu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sh flow and waterfal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lance sheet and other auditing too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senting key valuation outputs of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erforming sensitivity and scenario analysis on model outpu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p:txBody>
      </p:sp>
      <p:sp>
        <p:nvSpPr>
          <p:cNvPr id="14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ents about financial model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all has to make sense in a financial mode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enefits of project finance is the transparency of the cash flows as shown in the model</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financial failures have occurred because the investors had no idea what was driving the value.  Once problems occur when financial presentation is not transparent, panic often occurs.</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understanding</a:t>
            </a:r>
            <a:r>
              <a:rPr b="0" lang="en-GB" sz="2000" spc="-1" strike="noStrike">
                <a:solidFill>
                  <a:srgbClr val="000000"/>
                </a:solidFill>
                <a:latin typeface="Arial"/>
              </a:rPr>
              <a:t> a transaction and writing language for project finance contracts (construction contract, loan agreement, concession agreement, purchase power agreement) </a:t>
            </a:r>
            <a:r>
              <a:rPr b="1" i="1" lang="en-GB" sz="2000" spc="-1" strike="noStrike">
                <a:solidFill>
                  <a:srgbClr val="0000ff"/>
                </a:solidFill>
                <a:latin typeface="Arial"/>
              </a:rPr>
              <a:t>cash flow is the ultimate issue</a:t>
            </a:r>
            <a:r>
              <a:rPr b="0" lang="en-GB" sz="2000" spc="-1" strike="noStrike">
                <a:solidFill>
                  <a:srgbClr val="000000"/>
                </a:solidFill>
                <a:latin typeface="Arial"/>
              </a:rPr>
              <a:t>.  One must understand how much cash flow is generated, who gets the cash flow and the priorities each party has to the cash flow.</a:t>
            </a:r>
            <a:endParaRPr b="0"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entral Question in Economics and Finance is How to Evaluate Risk</a:t>
            </a:r>
            <a:endParaRPr b="1" lang="en-US" sz="1800" spc="-1" strike="noStrike">
              <a:solidFill>
                <a:srgbClr val="000000"/>
              </a:solidFill>
              <a:latin typeface="Arial"/>
            </a:endParaRPr>
          </a:p>
        </p:txBody>
      </p:sp>
      <p:sp>
        <p:nvSpPr>
          <p:cNvPr id="1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growth of trade transformed the principles of gambling into the creation of wealth, the inevitable result was capitalism, the epitome of risk-taking.  But capitalism could not have flourished without two new activities that had been unnecessary so long as the future was a matter of chanc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was bookkeeping, a humble activity but one that encouraged the dissemination of the new techniques of numbering and counting.  </a:t>
            </a:r>
            <a:endParaRPr b="0" lang="en-US" sz="1800" spc="-1" strike="noStrike">
              <a:solidFill>
                <a:srgbClr val="000000"/>
              </a:solidFill>
              <a:latin typeface="Arial"/>
            </a:endParaRPr>
          </a:p>
          <a:p>
            <a:pPr lvl="1" marL="635040" indent="165240">
              <a:spcBef>
                <a:spcPts val="451"/>
              </a:spcBef>
              <a:spcAft>
                <a:spcPts val="1125"/>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The other was forecasting, a much less humble and far more challenging activity that links risk taking with direct payoff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Remarkable Story of Risk”</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Perspective on Renewable Investments</a:t>
            </a:r>
            <a:endParaRPr b="1" lang="en-US" sz="2000" spc="-1" strike="noStrike">
              <a:solidFill>
                <a:srgbClr val="000000"/>
              </a:solidFill>
              <a:latin typeface="Arial"/>
            </a:endParaRPr>
          </a:p>
        </p:txBody>
      </p:sp>
      <p:sp>
        <p:nvSpPr>
          <p:cNvPr id="1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s from Financial Crisis on Risk Assessment</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Structuring</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alysi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and return requirement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risks of capital investment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tensity of Renewabl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Risks are Most Important</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of return required by private investors in wind farm investment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for bankers in wind farm investments in order to accept risk</a:t>
            </a:r>
            <a:endParaRPr b="0" lang="en-US" sz="1800" spc="-1" strike="noStrike">
              <a:solidFill>
                <a:srgbClr val="000000"/>
              </a:solidFill>
              <a:latin typeface="Arial"/>
            </a:endParaRPr>
          </a:p>
          <a:p>
            <a:pPr marL="4064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 – Standard and Poor’s</a:t>
            </a:r>
            <a:endParaRPr b="1" lang="en-US" sz="2000" spc="-1" strike="noStrike">
              <a:solidFill>
                <a:srgbClr val="000000"/>
              </a:solidFill>
              <a:latin typeface="Arial"/>
            </a:endParaRPr>
          </a:p>
        </p:txBody>
      </p:sp>
      <p:sp>
        <p:nvSpPr>
          <p:cNvPr id="1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financial model should:</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Back of the Envelop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Financial Issues and Modelling</a:t>
            </a:r>
            <a:endParaRPr b="1" lang="en-US" sz="2000" spc="-1" strike="noStrike">
              <a:solidFill>
                <a:srgbClr val="000000"/>
              </a:solidFill>
              <a:latin typeface="Arial"/>
            </a:endParaRPr>
          </a:p>
        </p:txBody>
      </p:sp>
      <p:sp>
        <p:nvSpPr>
          <p:cNvPr id="14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issues that must generally be addressed in valuation, financial structuring and credit analysi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inimum level of the project IRR that is acceptable (relative to the weighted average cost of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evel of the minimum required equity IRR with different amounts of debt on the balance shee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 for senior debt and subordinated debt as measured by the minimum DSCR or the LLC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subordinated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tradeoff between risk and return in evaluating covenants </a:t>
            </a: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Fundamental Financial Issues</a:t>
            </a:r>
            <a:endParaRPr b="1" lang="en-US" sz="2000" spc="-1" strike="noStrike">
              <a:solidFill>
                <a:srgbClr val="000000"/>
              </a:solidFill>
              <a:latin typeface="Arial"/>
            </a:endParaRPr>
          </a:p>
        </p:txBody>
      </p:sp>
      <p:sp>
        <p:nvSpPr>
          <p:cNvPr id="1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arious ways to resolve the basic financial issues presented on the last slide:</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theory</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ematical models include beta adjustments for the CAPM, statistical models for credit analysis, Monte Carlo simulation and value at risk.</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al Market Information</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Evaluation with Financi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nancial models to directly assess risks through sensitivity, scenario and simulation analysis.</a:t>
            </a:r>
            <a:endParaRPr b="0" lang="en-US" sz="1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5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 illustrates equity IRR’s on selected toll-roads.  This information more relevant than theoretical weighted average cost of capital calculation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3" name="Picture 4" descr=""/>
          <p:cNvPicPr/>
          <p:nvPr/>
        </p:nvPicPr>
        <p:blipFill>
          <a:blip r:embed="rId1"/>
          <a:stretch/>
        </p:blipFill>
        <p:spPr>
          <a:xfrm>
            <a:off x="2133720" y="2590920"/>
            <a:ext cx="4886280" cy="330840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15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that minimum DSCR threshold tests for most contract-driven projects to be around </a:t>
            </a:r>
            <a:r>
              <a:rPr b="0" lang="en-US" sz="1800" spc="-1" strike="noStrike">
                <a:solidFill>
                  <a:srgbClr val="3399ff"/>
                </a:solidFill>
                <a:latin typeface="Arial"/>
              </a:rPr>
              <a:t>1.30 times (x),</a:t>
            </a:r>
            <a:r>
              <a:rPr b="0" lang="en-US" sz="1800" spc="-1" strike="noStrike">
                <a:solidFill>
                  <a:srgbClr val="000000"/>
                </a:solidFill>
                <a:latin typeface="Arial"/>
              </a:rPr>
              <a:t> provided that this figure holds under stress analysis.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evels are too low for merchant projects. Instead, minimum DSCR levels for equity distributions may need to exceed </a:t>
            </a:r>
            <a:r>
              <a:rPr b="0" lang="en-US" sz="1800" spc="-1" strike="noStrike">
                <a:solidFill>
                  <a:srgbClr val="3399ff"/>
                </a:solidFill>
                <a:latin typeface="Arial"/>
              </a:rPr>
              <a:t>1.70x</a:t>
            </a:r>
            <a:r>
              <a:rPr b="0" lang="en-US" sz="1800" spc="-1" strike="noStrike">
                <a:solidFill>
                  <a:srgbClr val="000000"/>
                </a:solidFill>
                <a:latin typeface="Arial"/>
              </a:rPr>
              <a:t> for investment-grade transactions, depending on the industry.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one financial institution suggests that under base case assumptions the DSC should show not less than </a:t>
            </a:r>
            <a:r>
              <a:rPr b="0" lang="en-US" sz="1800" spc="-1" strike="noStrike">
                <a:solidFill>
                  <a:srgbClr val="3399ff"/>
                </a:solidFill>
                <a:latin typeface="Arial"/>
              </a:rPr>
              <a:t>1.2:1 </a:t>
            </a:r>
            <a:r>
              <a:rPr b="0" lang="en-US" sz="1800" spc="-1" strike="noStrike">
                <a:solidFill>
                  <a:srgbClr val="000000"/>
                </a:solidFill>
                <a:latin typeface="Arial"/>
              </a:rPr>
              <a:t>for every year of operation during the loan life, and no less than 1.4 on average.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Downside Case, with up to 5 years added to the repayment period, the DSC should be no less than 1.0:1 for every year or less than </a:t>
            </a:r>
            <a:r>
              <a:rPr b="0" lang="en-US" sz="1800" spc="-1" strike="noStrike">
                <a:solidFill>
                  <a:srgbClr val="3399ff"/>
                </a:solidFill>
                <a:latin typeface="Arial"/>
              </a:rPr>
              <a:t>1.15:1</a:t>
            </a:r>
            <a:r>
              <a:rPr b="0" lang="en-US" sz="1800" spc="-1" strike="noStrike">
                <a:solidFill>
                  <a:srgbClr val="000000"/>
                </a:solidFill>
                <a:latin typeface="Arial"/>
              </a:rPr>
              <a:t> on average during the life of the loa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th merchant exposure may find that leverage cannot exceed </a:t>
            </a:r>
            <a:r>
              <a:rPr b="0" lang="en-US" sz="1800" spc="-1" strike="noStrike">
                <a:solidFill>
                  <a:srgbClr val="0066ff"/>
                </a:solidFill>
                <a:latin typeface="Arial"/>
              </a:rPr>
              <a:t>50%</a:t>
            </a:r>
            <a:r>
              <a:rPr b="0" lang="en-US" sz="1800" spc="-1" strike="noStrike">
                <a:solidFill>
                  <a:srgbClr val="000000"/>
                </a:solidFill>
                <a:latin typeface="Arial"/>
              </a:rPr>
              <a:t> if investment-grade rated debt is sought.  On the other hand, contract-revenue driven projects, on the other hand, typically have had leverage levels around </a:t>
            </a:r>
            <a:r>
              <a:rPr b="0" lang="en-US" sz="1800" spc="-1" strike="noStrike">
                <a:solidFill>
                  <a:srgbClr val="0066ff"/>
                </a:solidFill>
                <a:latin typeface="Arial"/>
              </a:rPr>
              <a:t>70% to 80%.</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Loan Examples – Spanish Wind Farm</a:t>
            </a:r>
            <a:endParaRPr b="1" lang="en-US" sz="2000" spc="-1" strike="noStrike">
              <a:solidFill>
                <a:srgbClr val="000000"/>
              </a:solidFill>
              <a:latin typeface="Arial"/>
            </a:endParaRPr>
          </a:p>
        </p:txBody>
      </p:sp>
      <p:sp>
        <p:nvSpPr>
          <p:cNvPr id="10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quisition of 6 wind farms in Spain</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inancing EUR 195 M </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value of the transaction EUR235 M</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 about EUR 40 M </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158 MW of Capacity</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ng about 350 GWh per year</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st 5 cents/kWh.</a:t>
            </a:r>
            <a:endParaRPr b="0" lang="en-US" sz="1800" spc="-1" strike="noStrike">
              <a:solidFill>
                <a:srgbClr val="000000"/>
              </a:solidFill>
              <a:latin typeface="Arial"/>
            </a:endParaRPr>
          </a:p>
          <a:p>
            <a:pPr marL="402120" indent="-40212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nd Leverage</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per kW of Capacity</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bine Capacity</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lems with Project Finance Models</a:t>
            </a:r>
            <a:endParaRPr b="1" lang="en-US" sz="2000" spc="-1" strike="noStrike">
              <a:solidFill>
                <a:srgbClr val="000000"/>
              </a:solidFill>
              <a:latin typeface="Arial"/>
            </a:endParaRPr>
          </a:p>
        </p:txBody>
      </p:sp>
      <p:sp>
        <p:nvSpPr>
          <p:cNvPr id="15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 not Documented in Databook</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grated Cashflow, P&amp;L, Balance Sheet</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Tax Errors</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Accounting</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tax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lexibility for Breakeven Analysis and Other Risk Analysi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 of cash flow sweeps, covenants and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resentation of the Model to Senior Management</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ope of Model</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odel Conclusions</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159" name="Picture 3" descr=""/>
          <p:cNvPicPr/>
          <p:nvPr/>
        </p:nvPicPr>
        <p:blipFill>
          <a:blip r:embed="rId1"/>
          <a:stretch/>
        </p:blipFill>
        <p:spPr>
          <a:xfrm>
            <a:off x="2209680" y="1295280"/>
            <a:ext cx="4953240" cy="1839960"/>
          </a:xfrm>
          <a:prstGeom prst="rect">
            <a:avLst/>
          </a:prstGeom>
          <a:ln w="0">
            <a:noFill/>
          </a:ln>
        </p:spPr>
      </p:pic>
      <p:pic>
        <p:nvPicPr>
          <p:cNvPr id="160"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s</a:t>
            </a:r>
            <a:br>
              <a:rPr sz="2000"/>
            </a:b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Structure</a:t>
            </a:r>
            <a:endParaRPr b="1" lang="en-US" sz="2000" spc="-1" strike="noStrike">
              <a:solidFill>
                <a:srgbClr val="000000"/>
              </a:solidFill>
              <a:latin typeface="Arial"/>
            </a:endParaRPr>
          </a:p>
        </p:txBody>
      </p:sp>
      <p:sp>
        <p:nvSpPr>
          <p:cNvPr id="16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finance model should correspond to the fundamentals of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equations for different phases of the proje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to define how project is financ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bt corresponding to cash 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capacity and equity IR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effect of covenants, cash flow sweeps and other debt featur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debt service reserves and operating reserves</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heets (Assumption Book)</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 Arranging of inputs</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Sources and Uses of Funds (Monthly Construction Expenditure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Sources of Fund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Schedul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 </a:t>
            </a: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167"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69"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70"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AutoShape 7"/>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72"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AutoShape 9"/>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174" name="Rectangle 10"/>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75" name="AutoShape 11"/>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176" name="AutoShape 12"/>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77" name="AutoShape 13"/>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78" name="AutoShape 14"/>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179" name="AutoShape 15"/>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180" name="AutoShape 16"/>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AutoShape 17"/>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182" name="Line 18"/>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Line 19"/>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Line 20"/>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AutoShape 21"/>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186" name="Line 2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Line 23"/>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Line 24"/>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Line 25"/>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Line 26"/>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27"/>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Line 28"/>
          <p:cNvSpPr/>
          <p:nvPr/>
        </p:nvSpPr>
        <p:spPr>
          <a:xfrm>
            <a:off x="5867280" y="41148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194"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195"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196"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197"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198"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199"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200"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201"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Line 15"/>
          <p:cNvSpPr/>
          <p:nvPr/>
        </p:nvSpPr>
        <p:spPr>
          <a:xfrm>
            <a:off x="5562720" y="3886200"/>
            <a:ext cx="0" cy="4572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Line 16"/>
          <p:cNvSpPr/>
          <p:nvPr/>
        </p:nvSpPr>
        <p:spPr>
          <a:xfrm>
            <a:off x="6172200" y="2362320"/>
            <a:ext cx="0" cy="19810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Line 17"/>
          <p:cNvSpPr/>
          <p:nvPr/>
        </p:nvSpPr>
        <p:spPr>
          <a:xfrm flipV="1">
            <a:off x="6629400" y="434340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 Example of Different Periodic Statements</a:t>
            </a:r>
            <a:endParaRPr b="1" lang="en-US" sz="2000" spc="-1" strike="noStrike">
              <a:solidFill>
                <a:srgbClr val="000000"/>
              </a:solidFill>
              <a:latin typeface="Arial"/>
            </a:endParaRPr>
          </a:p>
        </p:txBody>
      </p:sp>
      <p:sp>
        <p:nvSpPr>
          <p:cNvPr id="21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Picture 4" descr=""/>
          <p:cNvPicPr/>
          <p:nvPr/>
        </p:nvPicPr>
        <p:blipFill>
          <a:blip r:embed="rId1"/>
          <a:stretch/>
        </p:blipFill>
        <p:spPr>
          <a:xfrm>
            <a:off x="685800" y="1600200"/>
            <a:ext cx="7910640" cy="4361040"/>
          </a:xfrm>
          <a:prstGeom prst="rect">
            <a:avLst/>
          </a:prstGeom>
          <a:ln w="0">
            <a:noFill/>
          </a:ln>
        </p:spPr>
      </p:pic>
      <p:sp>
        <p:nvSpPr>
          <p:cNvPr id="212" name="Text Box 5"/>
          <p:cNvSpPr/>
          <p:nvPr/>
        </p:nvSpPr>
        <p:spPr>
          <a:xfrm>
            <a:off x="7238880" y="1295280"/>
            <a:ext cx="152424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inancial assumptions separated from operational assumptions</a:t>
            </a:r>
            <a:endParaRPr b="0" lang="en-US" sz="1200" spc="-1" strike="noStrike">
              <a:solidFill>
                <a:srgbClr val="000000"/>
              </a:solidFill>
              <a:latin typeface="Arial"/>
            </a:endParaRPr>
          </a:p>
        </p:txBody>
      </p:sp>
      <p:sp>
        <p:nvSpPr>
          <p:cNvPr id="213" name="Line 6"/>
          <p:cNvSpPr/>
          <p:nvPr/>
        </p:nvSpPr>
        <p:spPr>
          <a:xfrm flipH="1">
            <a:off x="6400440" y="1676520"/>
            <a:ext cx="76212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Text Box 7"/>
          <p:cNvSpPr/>
          <p:nvPr/>
        </p:nvSpPr>
        <p:spPr>
          <a:xfrm>
            <a:off x="7391520" y="3505320"/>
            <a:ext cx="121896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ime period for different statements</a:t>
            </a:r>
            <a:endParaRPr b="0" lang="en-US" sz="1200" spc="-1" strike="noStrike">
              <a:solidFill>
                <a:srgbClr val="000000"/>
              </a:solidFill>
              <a:latin typeface="Arial"/>
            </a:endParaRPr>
          </a:p>
        </p:txBody>
      </p:sp>
      <p:sp>
        <p:nvSpPr>
          <p:cNvPr id="215" name="Line 8"/>
          <p:cNvSpPr/>
          <p:nvPr/>
        </p:nvSpPr>
        <p:spPr>
          <a:xfrm flipH="1" flipV="1">
            <a:off x="6858000" y="3657600"/>
            <a:ext cx="38088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Line 9"/>
          <p:cNvSpPr/>
          <p:nvPr/>
        </p:nvSpPr>
        <p:spPr>
          <a:xfrm flipH="1">
            <a:off x="6705360" y="4191120"/>
            <a:ext cx="60948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Example – Summarizes the whole project</a:t>
            </a:r>
            <a:endParaRPr b="1" lang="en-US" sz="2000" spc="-1" strike="noStrike">
              <a:solidFill>
                <a:srgbClr val="000000"/>
              </a:solidFill>
              <a:latin typeface="Arial"/>
            </a:endParaRPr>
          </a:p>
        </p:txBody>
      </p:sp>
      <p:sp>
        <p:nvSpPr>
          <p:cNvPr id="21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9" name="Picture 4" descr=""/>
          <p:cNvPicPr/>
          <p:nvPr/>
        </p:nvPicPr>
        <p:blipFill>
          <a:blip r:embed="rId1"/>
          <a:stretch/>
        </p:blipFill>
        <p:spPr>
          <a:xfrm>
            <a:off x="380880" y="1828800"/>
            <a:ext cx="8420400" cy="3767040"/>
          </a:xfrm>
          <a:prstGeom prst="rect">
            <a:avLst/>
          </a:prstGeom>
          <a:ln w="0">
            <a:noFill/>
          </a:ln>
        </p:spPr>
      </p:pic>
      <p:sp>
        <p:nvSpPr>
          <p:cNvPr id="220" name="Text Box 5"/>
          <p:cNvSpPr/>
          <p:nvPr/>
        </p:nvSpPr>
        <p:spPr>
          <a:xfrm>
            <a:off x="5105520" y="11430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and use statement together with the DSCRs and the IRR summarize the project and is the beginning of the analysis</a:t>
            </a: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ummary of Modelling Practises</a:t>
            </a:r>
            <a:endParaRPr b="1" lang="en-US" sz="20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kie Wind Energy Project – </a:t>
            </a:r>
            <a:br>
              <a:rPr sz="2000"/>
            </a:br>
            <a:r>
              <a:rPr b="1" lang="en-US" sz="2000" spc="-1" strike="noStrike">
                <a:solidFill>
                  <a:srgbClr val="000000"/>
                </a:solidFill>
                <a:latin typeface="Arial"/>
              </a:rPr>
              <a:t>Canadian Example</a:t>
            </a:r>
            <a:endParaRPr b="1" lang="en-US" sz="2000" spc="-1" strike="noStrike">
              <a:solidFill>
                <a:srgbClr val="000000"/>
              </a:solidFill>
              <a:latin typeface="Arial"/>
            </a:endParaRPr>
          </a:p>
        </p:txBody>
      </p:sp>
      <p:sp>
        <p:nvSpPr>
          <p:cNvPr id="10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LB project financing for a wind farm in British Columbia, Canada.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150 MW</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renewable energy developer EarthFirst Canada Inc.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s: $214 million including a two-year construction period and will have a 20-year final maturity</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ife: 10- to 13-year range.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rice Agreement: A 20-year power purchase agreement with British Columbia-based electric utility BC Hydro, which has a rating of AA' by Standard &amp; Poor's. </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2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the model into </a:t>
            </a:r>
            <a:r>
              <a:rPr b="1" i="1" lang="en-US" sz="1800" spc="-1" strike="noStrike">
                <a:solidFill>
                  <a:srgbClr val="000000"/>
                </a:solidFill>
                <a:latin typeface="Arial"/>
              </a:rPr>
              <a:t>separate modules</a:t>
            </a:r>
            <a:r>
              <a:rPr b="0" lang="en-US" sz="1800" spc="-1" strike="noStrike">
                <a:solidFill>
                  <a:srgbClr val="000000"/>
                </a:solidFill>
                <a:latin typeface="Arial"/>
              </a:rPr>
              <a:t>, beginning with an in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ow the </a:t>
            </a:r>
            <a:r>
              <a:rPr b="1" i="1" lang="en-US" sz="1800" spc="-1" strike="noStrike">
                <a:solidFill>
                  <a:srgbClr val="000000"/>
                </a:solidFill>
                <a:latin typeface="Arial"/>
              </a:rPr>
              <a:t>value drivers</a:t>
            </a:r>
            <a:r>
              <a:rPr b="0" lang="en-US" sz="1800" spc="-1" strike="noStrike">
                <a:solidFill>
                  <a:srgbClr val="000000"/>
                </a:solidFill>
                <a:latin typeface="Arial"/>
              </a:rPr>
              <a:t> determine operating revenues, operating expenses and capital expenditures in a separate </a:t>
            </a:r>
            <a:r>
              <a:rPr b="1" i="1" lang="en-US" sz="1800" spc="-1" strike="noStrike">
                <a:solidFill>
                  <a:srgbClr val="000000"/>
                </a:solidFill>
                <a:latin typeface="Arial"/>
              </a:rPr>
              <a:t>“working” module</a:t>
            </a:r>
            <a:r>
              <a:rPr b="0" lang="en-US" sz="1800" spc="-1" strike="noStrike">
                <a:solidFill>
                  <a:srgbClr val="000000"/>
                </a:solidFill>
                <a:latin typeface="Arial"/>
              </a:rPr>
              <a:t> rather than in financial statement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t>
            </a:r>
            <a:r>
              <a:rPr b="1" i="1" lang="en-US" sz="1800" spc="-1" strike="noStrike">
                <a:solidFill>
                  <a:srgbClr val="000000"/>
                </a:solidFill>
                <a:latin typeface="Arial"/>
              </a:rPr>
              <a:t>the starting point</a:t>
            </a:r>
            <a:r>
              <a:rPr b="0" lang="en-US" sz="1800" spc="-1" strike="noStrike">
                <a:solidFill>
                  <a:srgbClr val="000000"/>
                </a:solidFill>
                <a:latin typeface="Arial"/>
              </a:rPr>
              <a:t> of the model as it relates to the valuation issue (balance sheet, sources and uses statement or both).</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ly </a:t>
            </a:r>
            <a:r>
              <a:rPr b="1" i="1" lang="en-US" sz="1800" spc="-1" strike="noStrike">
                <a:solidFill>
                  <a:srgbClr val="000000"/>
                </a:solidFill>
                <a:latin typeface="Arial"/>
              </a:rPr>
              <a:t>define the time period</a:t>
            </a:r>
            <a:r>
              <a:rPr b="0" lang="en-US" sz="1800" spc="-1" strike="noStrike">
                <a:solidFill>
                  <a:srgbClr val="000000"/>
                </a:solidFill>
                <a:latin typeface="Arial"/>
              </a:rPr>
              <a:t> of the model using codes that define alternative phases of the analysi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a:t>
            </a:r>
            <a:r>
              <a:rPr b="1" i="1" lang="en-US" sz="1800" spc="-1" strike="noStrike">
                <a:solidFill>
                  <a:srgbClr val="000000"/>
                </a:solidFill>
                <a:latin typeface="Arial"/>
              </a:rPr>
              <a:t>every single balance sheet item</a:t>
            </a:r>
            <a:r>
              <a:rPr b="0" lang="en-US" sz="18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t>
            </a:r>
            <a:r>
              <a:rPr b="1" i="1" lang="en-US" sz="1800" spc="-1" strike="noStrike">
                <a:solidFill>
                  <a:srgbClr val="000000"/>
                </a:solidFill>
                <a:latin typeface="Arial"/>
              </a:rPr>
              <a:t>separate modules</a:t>
            </a:r>
            <a:r>
              <a:rPr b="0" lang="en-US" sz="1800" spc="-1" strike="noStrike">
                <a:solidFill>
                  <a:srgbClr val="000000"/>
                </a:solidFill>
                <a:latin typeface="Arial"/>
              </a:rPr>
              <a:t> for debt issues, fixed plant assets, working capital and cash balances.</a:t>
            </a: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225"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practices are discussed in another sheet named spreadsheet conven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 keeping the formulas simple and making the sheets transparent and easy to rea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llowing should be in many other lin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4" descr=""/>
          <p:cNvPicPr/>
          <p:nvPr/>
        </p:nvPicPr>
        <p:blipFill>
          <a:blip r:embed="rId1"/>
          <a:stretch/>
        </p:blipFill>
        <p:spPr>
          <a:xfrm>
            <a:off x="1353960" y="3652920"/>
            <a:ext cx="5992920" cy="233352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ccounts and Cork Screws</a:t>
            </a:r>
            <a:endParaRPr b="1" lang="en-US" sz="2000" spc="-1" strike="noStrike">
              <a:solidFill>
                <a:srgbClr val="000000"/>
              </a:solidFill>
              <a:latin typeface="Arial"/>
            </a:endParaRPr>
          </a:p>
        </p:txBody>
      </p:sp>
      <p:sp>
        <p:nvSpPr>
          <p:cNvPr id="2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It is good practice to have accounts for all balance sheet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Some example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lant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debt balance for each issu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ebt servi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Maintenan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NOL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Un-amortised debt fee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basis for changes in working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mon equity balance</a:t>
            </a:r>
            <a:endParaRPr b="0" lang="en-US" sz="1800" spc="-1" strike="noStrike">
              <a:solidFill>
                <a:srgbClr val="000000"/>
              </a:solidFill>
              <a:latin typeface="Arial"/>
            </a:endParaRPr>
          </a:p>
        </p:txBody>
      </p:sp>
      <p:pic>
        <p:nvPicPr>
          <p:cNvPr id="229"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s for Wind Project</a:t>
            </a:r>
            <a:endParaRPr b="1" lang="en-US" sz="2000" spc="-1" strike="noStrike">
              <a:solidFill>
                <a:srgbClr val="000000"/>
              </a:solidFill>
              <a:latin typeface="Arial"/>
            </a:endParaRPr>
          </a:p>
        </p:txBody>
      </p:sp>
      <p:sp>
        <p:nvSpPr>
          <p:cNvPr id="23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the length of a loan is between 10 and 15 years, but loan terms have become longer as banks have become more experienced in the wind industry.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est rate is often 1-1.5 per cent above the base rate at which the bank borrows their own funds (referred to as the interbank offer rate). In addition, banks usually charge a loan set-up fee of around 1 per cent of the loan cost, and they can make extra money by offering administrative and account services associated with the loan. Products to fix interest rates or foreign exchange rates are often sold to the project owner.</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also typical for investors to have a series of requirements over the loan period; these are referred to as ‘financial covenants’. These requirements are often the result of the due diligence and are listed within the ‘financing agreement’. Typical covenants include the regular provision of information about operational and financial reporting, insurance coverage and management of project bank accoun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Analysis and Time Period Definitions in Models</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23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 in alternative model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2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4064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Development Phase</a:t>
            </a:r>
            <a:endParaRPr b="1" lang="en-US" sz="2000" spc="-1" strike="noStrike">
              <a:solidFill>
                <a:srgbClr val="000000"/>
              </a:solidFill>
              <a:latin typeface="Arial"/>
            </a:endParaRPr>
          </a:p>
        </p:txBody>
      </p:sp>
      <p:pic>
        <p:nvPicPr>
          <p:cNvPr id="238" name="Picture 2" descr=""/>
          <p:cNvPicPr/>
          <p:nvPr/>
        </p:nvPicPr>
        <p:blipFill>
          <a:blip r:embed="rId1"/>
          <a:stretch/>
        </p:blipFill>
        <p:spPr>
          <a:xfrm>
            <a:off x="2813040" y="1523880"/>
            <a:ext cx="3892680" cy="505800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Development Expenditures and Probability of Proceeding</a:t>
            </a:r>
            <a:endParaRPr b="1" lang="en-US" sz="2000" spc="-1" strike="noStrike">
              <a:solidFill>
                <a:srgbClr val="000000"/>
              </a:solidFill>
              <a:latin typeface="Arial"/>
            </a:endParaRPr>
          </a:p>
        </p:txBody>
      </p:sp>
      <p:sp>
        <p:nvSpPr>
          <p:cNvPr id="240"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pproach</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10% chance of proceeding, development expenditure is worth 10 times as much as other construction expenditu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2% of development cost really has a cost of 20% of the project</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certainty of Costs and Time to Development</a:t>
            </a:r>
            <a:endParaRPr b="1" lang="en-US" sz="2000" spc="-1" strike="noStrike">
              <a:solidFill>
                <a:srgbClr val="000000"/>
              </a:solidFill>
              <a:latin typeface="Arial"/>
            </a:endParaRPr>
          </a:p>
        </p:txBody>
      </p:sp>
      <p:pic>
        <p:nvPicPr>
          <p:cNvPr id="242" name="Picture 2" descr=""/>
          <p:cNvPicPr/>
          <p:nvPr/>
        </p:nvPicPr>
        <p:blipFill>
          <a:blip r:embed="rId1"/>
          <a:stretch/>
        </p:blipFill>
        <p:spPr>
          <a:xfrm>
            <a:off x="1500120" y="1523880"/>
            <a:ext cx="6143760" cy="457200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oan Life</a:t>
            </a:r>
            <a:endParaRPr b="1" lang="en-US" sz="2000" spc="-1" strike="noStrike">
              <a:solidFill>
                <a:srgbClr val="000000"/>
              </a:solidFill>
              <a:latin typeface="Arial"/>
            </a:endParaRPr>
          </a:p>
        </p:txBody>
      </p:sp>
      <p:sp>
        <p:nvSpPr>
          <p:cNvPr id="1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P Paribas was in the market last week with a 144A for the Panoche Energy Center in California.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al is $330 million in size,</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 21.5-year final,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year average life maturity.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amp; Poor's has a rating of BBB-' on the deal, which is expected to price this week. </a:t>
            </a:r>
            <a:endParaRPr b="0"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2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7160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246"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47" name="Object 4"/>
          <p:cNvGraphicFramePr/>
          <p:nvPr/>
        </p:nvGraphicFramePr>
        <p:xfrm>
          <a:off x="0" y="1905120"/>
          <a:ext cx="8686800" cy="4440240"/>
        </p:xfrm>
        <a:graphic>
          <a:graphicData uri="http://schemas.openxmlformats.org/presentationml/2006/ole">
            <p:oleObj progId="Word.Document.12" r:id="rId1" spid="">
              <p:embed/>
              <p:pic>
                <p:nvPicPr>
                  <p:cNvPr id="248"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249"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251" name="Line 7"/>
          <p:cNvSpPr/>
          <p:nvPr/>
        </p:nvSpPr>
        <p:spPr>
          <a:xfrm>
            <a:off x="6629400" y="3200400"/>
            <a:ext cx="12952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253"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255"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261"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262"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272"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273"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275"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276"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277"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278"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279"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0"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282"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283"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284"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285"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288"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289"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291"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300"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302"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310"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317"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318"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3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Before Commercial Operation</a:t>
            </a:r>
            <a:endParaRPr b="1"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Construction and Operation Time Period</a:t>
            </a:r>
            <a:endParaRPr b="1" lang="en-US" sz="2000" spc="-1" strike="noStrike">
              <a:solidFill>
                <a:srgbClr val="000000"/>
              </a:solidFill>
              <a:latin typeface="Arial"/>
            </a:endParaRPr>
          </a:p>
        </p:txBody>
      </p:sp>
      <p:sp>
        <p:nvSpPr>
          <p:cNvPr id="321" name="PlaceHolder 2"/>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Income Statement and Cash Flow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ash flow to equity</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distribution from the cash flow statement at the end of the cash flow waterfall</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repayment included in the cash flow</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d in the income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expenses and depreciation included</a:t>
            </a:r>
            <a:endParaRPr b="0" lang="en-US" sz="18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3"/>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228600" indent="-22860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Sources and Uses Statement During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h distributions to equity </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cash to determine equity and debt issuance</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down and no debt maturities</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capitalized to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venues, expenses or depreciation</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 During Construction</a:t>
            </a:r>
            <a:endParaRPr b="1" lang="en-US" sz="2000" spc="-1" strike="noStrike">
              <a:solidFill>
                <a:srgbClr val="000000"/>
              </a:solidFill>
              <a:latin typeface="Arial"/>
            </a:endParaRPr>
          </a:p>
        </p:txBody>
      </p:sp>
      <p:sp>
        <p:nvSpPr>
          <p:cNvPr id="32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During Construction</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is capitalized to construction cost -- this means that interest is not included on the income statements, but it is included as a part of construction co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includes IDC in the bas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can be computed from the deb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Income on Debt Reserves has similar computations.</a:t>
            </a:r>
            <a:endParaRPr b="0" lang="en-US" sz="14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versus Annual Sources and Uses</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nly Reason for Monthly Analysis of Construction is for Accurate Representation of IDC, Otherwise Annual Would Be Fin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sources and uses of funds statement computed in exactly the same format, but compute monthly intere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interest expense, use the annual interest rate divided by twelv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ulate the monthly interest balance and replace the lines in the annual model with the sum of the monthly interest.  (You could do this with debt balances as well, but that is not necessary.)</a:t>
            </a:r>
            <a:endParaRPr b="0" lang="en-US" sz="14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
        <p:nvSpPr>
          <p:cNvPr id="3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the equity IRR is the fundamental measure of return for a project, a number of ambiguities arise from its measurement.  Some of these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shareholder subordinated loans in the calculation (these may depend on the tax law regarding the deductibility of interest for a particular countr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development fees that are paid to the sponsor but do not cover out-of-pocket costs for consultants, lawyers etc. as a cash inflow in the equity IRR calculat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assumptions with respect to debt re-financing which accelerates cash flows to equity holder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rule: is money going into or out of the pockets of equity investors</a:t>
            </a:r>
            <a:endParaRPr b="0" lang="en-US" sz="2000" spc="-1" strike="noStrike">
              <a:solidFill>
                <a:srgbClr val="000000"/>
              </a:solidFill>
              <a:latin typeface="Arial"/>
            </a:endParaRPr>
          </a:p>
          <a:p>
            <a:pPr lvl="1" marL="635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3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Cash Flow (un-geared after tax cash flow)</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suggests analyzing free cash flow and the claims on free cash flow</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free cash flow discounted at the WACC defines the asset value or the Enterprise Valu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same no matter how high or low the debt level.</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determines the project IRR</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RR can be compared with the after-tax interest rate to determine the benefits from leverag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o free cash flow, equity cash flow should be discounted at a higher discount rate</a:t>
            </a:r>
            <a:endParaRPr b="0" lang="en-US" sz="1800" spc="-1" strike="noStrike">
              <a:solidFill>
                <a:srgbClr val="000000"/>
              </a:solidFill>
              <a:latin typeface="Arial"/>
            </a:endParaRPr>
          </a:p>
          <a:p>
            <a:pPr marL="40644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nd Valuation for Real Estate Projects</a:t>
            </a:r>
            <a:endParaRPr b="1" lang="en-US" sz="2000" spc="-1" strike="noStrike">
              <a:solidFill>
                <a:srgbClr val="000000"/>
              </a:solidFill>
              <a:latin typeface="Arial"/>
            </a:endParaRPr>
          </a:p>
        </p:txBody>
      </p:sp>
      <p:sp>
        <p:nvSpPr>
          <p:cNvPr id="33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rill Lynch performed a discounted cash flow (“DCF”) analysis on Equity Office, based on projections provided by our management. </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llustrative present value indications of unlevered free cash flows for Equity Office for the years 2007 though 2010 using discount rates ranging from 7.25% to 7.75%, based on the estimated cost of capital of Equity Office, which included consideration of historical rates of return for publicly-traded common stocks, risks inherent in the industry and specific risks associated with the continuing operations of Equity Office on a standalone basis, </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the illustrative terminal value using estimated 2011 EBITDA based on terminal EBITDA multiples ranging from 17.5x to 18.5x, based upon total enterprise value to estimated 2007 EBITDA multiples for the selected comparable companies. </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33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flow can be computed from the income statement or from the cash flow statement.  The amount of free cash flow (free after all capital expenditures and operating expenses and taxes) is the sum of equity cash flow and debt service. </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ash flow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income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4064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lexity in measuring free cash flow is making adjustments for interest during construction.  Interest during construction would not exist with no debt financing and the tax deductions on the  depreciation portion that represents IDC would not exist.</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method is easier to compute, the second method is more intuitive.</a:t>
            </a:r>
            <a:endParaRPr b="0" lang="en-US" sz="14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334"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Loan Examples – Spanish Wind Farm</a:t>
            </a:r>
            <a:endParaRPr b="1" lang="en-US" sz="2000" spc="-1" strike="noStrike">
              <a:solidFill>
                <a:srgbClr val="000000"/>
              </a:solidFill>
              <a:latin typeface="Arial"/>
            </a:endParaRPr>
          </a:p>
        </p:txBody>
      </p:sp>
      <p:sp>
        <p:nvSpPr>
          <p:cNvPr id="1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quisition of 6 wind farms in Spain</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inancing EUR 195 M </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value of the transaction EUR235 M</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 about EUR 40 M </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158 MW of Capacity</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ng about 350 GWh per year</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st 5 cents/kWh.</a:t>
            </a:r>
            <a:endParaRPr b="0" lang="en-US" sz="1800" spc="-1" strike="noStrike">
              <a:solidFill>
                <a:srgbClr val="000000"/>
              </a:solidFill>
              <a:latin typeface="Arial"/>
            </a:endParaRPr>
          </a:p>
          <a:p>
            <a:pPr marL="402120" indent="-40212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nd Leverage</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per kW of Capacity</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bine Capacity</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NPV and other Issues</a:t>
            </a:r>
            <a:endParaRPr b="1" lang="en-US" sz="2000" spc="-1" strike="noStrike">
              <a:solidFill>
                <a:srgbClr val="000000"/>
              </a:solidFill>
              <a:latin typeface="Arial"/>
            </a:endParaRPr>
          </a:p>
        </p:txBody>
      </p:sp>
      <p:sp>
        <p:nvSpPr>
          <p:cNvPr id="3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V calculations are misleading if used to compared two projects of different siz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R calculations exaggerate the value of early cash flows and understate the value of later cash flow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exposed to non-traditional risks (discussed earlie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high and rapidly changing leverag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ave imbedded optional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have early, certain and large negative cash flows followed by uncertain positive cash flows. </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IRR versus Equity IRR</a:t>
            </a:r>
            <a:endParaRPr b="1" lang="en-US" sz="2000" spc="-1" strike="noStrike">
              <a:solidFill>
                <a:srgbClr val="000000"/>
              </a:solidFill>
              <a:latin typeface="Arial"/>
            </a:endParaRPr>
          </a:p>
        </p:txBody>
      </p:sp>
      <p:sp>
        <p:nvSpPr>
          <p:cNvPr id="3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28600" indent="-228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ntral issue in finance is equity valuation (P/E) versus enterprise valuation (EBITDA).  In project finance, the issue is whether investments should be assessed with project IRR on free cash flow or equity IRR on equity cash flow:</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valuation of a project is from free cash flow, and the capital structure is irrelevant.</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unter point is that financing provides essential valuation information on the risk and value of a project, this is how of banks and insurance companies are valued where financing drives value.</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 the level of debt tells a lot about the risk of a project – if a project has more debt capacity, the free cash flows have less risk.</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free cash flow and the project IRR to establish the “real” economics of the project.  Then evaluate financial criteria such as covenants with equity IRR. </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77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a:t>
            </a:r>
            <a:r>
              <a:rPr b="0" lang="en-US" sz="2000" spc="-1" strike="noStrike">
                <a:solidFill>
                  <a:srgbClr val="000000"/>
                </a:solidFill>
                <a:latin typeface="Arial"/>
              </a:rPr>
              <a:t> </a:t>
            </a:r>
            <a:r>
              <a:rPr b="1" lang="en-US" sz="2000" spc="-1" strike="noStrike">
                <a:solidFill>
                  <a:srgbClr val="000000"/>
                </a:solidFill>
                <a:latin typeface="Arial"/>
              </a:rPr>
              <a:t>Finance versus Traditional Investment Evaluation</a:t>
            </a:r>
            <a:endParaRPr b="1" lang="en-US" sz="2000" spc="-1" strike="noStrike">
              <a:solidFill>
                <a:srgbClr val="000000"/>
              </a:solidFill>
              <a:latin typeface="Arial"/>
            </a:endParaRPr>
          </a:p>
        </p:txBody>
      </p:sp>
      <p:sp>
        <p:nvSpPr>
          <p:cNvPr id="340" name="PlaceHolder 2"/>
          <p:cNvSpPr>
            <a:spLocks noGrp="1"/>
          </p:cNvSpPr>
          <p:nvPr>
            <p:ph/>
          </p:nvPr>
        </p:nvSpPr>
        <p:spPr>
          <a:xfrm>
            <a:off x="304560" y="1523880"/>
            <a:ext cx="4267080" cy="411480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adition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assessment of project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 compared to all-equity cost of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nd leverage do not impact investment decision</a:t>
            </a:r>
            <a:endParaRPr b="0" lang="en-US" sz="1600" spc="-1" strike="noStrike">
              <a:solidFill>
                <a:srgbClr val="000000"/>
              </a:solidFill>
              <a:latin typeface="Arial"/>
            </a:endParaRPr>
          </a:p>
        </p:txBody>
      </p:sp>
      <p:sp>
        <p:nvSpPr>
          <p:cNvPr id="341" name="PlaceHolder 3"/>
          <p:cNvSpPr>
            <a:spLocks noGrp="1"/>
          </p:cNvSpPr>
          <p:nvPr>
            <p:ph/>
          </p:nvPr>
        </p:nvSpPr>
        <p:spPr>
          <a:xfrm>
            <a:off x="4362480" y="1523880"/>
            <a:ext cx="4178160" cy="412128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ject Financ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the equity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ffected by debt leverage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 on issuing debt is risk assessment of financial institution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trained optimization can be used to measure risk</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nd Equity IRR Issue – Equity Bridge Loans and Recourse Debt</a:t>
            </a:r>
            <a:endParaRPr b="1" lang="en-US" sz="2000" spc="-1" strike="noStrike">
              <a:solidFill>
                <a:srgbClr val="000000"/>
              </a:solidFill>
              <a:latin typeface="Arial"/>
            </a:endParaRPr>
          </a:p>
        </p:txBody>
      </p:sp>
      <p:sp>
        <p:nvSpPr>
          <p:cNvPr id="34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ome projects, equity holders provide loans to the project from their balance sheet instead of equity.  The issue arises as to whether these should be considered equity or debt.</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providing equity, a sponsor secures a loan to the project.</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will be re-paid in a bullet at the end of seven year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loan is re-paid, the sponsor provides equity to finance the loan.</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the equity bridge loan be considered debt or equity for purposes of computing IRR.</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uses resources of the parent and must be guaranteed by the parent</a:t>
            </a:r>
            <a:endParaRPr b="0" lang="en-US" sz="16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s in PFI</a:t>
            </a:r>
            <a:endParaRPr b="1" lang="en-US" sz="2000" spc="-1" strike="noStrike">
              <a:solidFill>
                <a:srgbClr val="000000"/>
              </a:solidFill>
              <a:latin typeface="Arial"/>
            </a:endParaRPr>
          </a:p>
        </p:txBody>
      </p:sp>
      <p:sp>
        <p:nvSpPr>
          <p:cNvPr id="34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R’s are negotiated in PFI transactions as part of the concession agreement where the IRR drives pricing in the contrac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ssion agreements in PFI project financings limit increases in the IRR that come about from interest savings from re-financing. (e.g. share excess profit 50/50).</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cession agreements, the IRR is used to monitor the performance of the project as well as for the investment decision.</a:t>
            </a:r>
            <a:endParaRPr b="0" lang="en-US" sz="20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Valuation Metrics – Payback and Discounted Payback</a:t>
            </a:r>
            <a:endParaRPr b="1" lang="en-US" sz="2000" spc="-1" strike="noStrike">
              <a:solidFill>
                <a:srgbClr val="000000"/>
              </a:solidFill>
              <a:latin typeface="Arial"/>
            </a:endParaRPr>
          </a:p>
        </p:txBody>
      </p:sp>
      <p:sp>
        <p:nvSpPr>
          <p:cNvPr id="34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yback period measures the number of years that it takes before the cumulative forecast of cash flow equals the initial investment.  It is criticized because it gives equal weight to cash flows before the payback and zero weight thereafte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if you are explaining the benefits of a project and you can tell an investor that the money he invests will be all paid back in three years, and everything else is gravy, the payback can be an effective analysis too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yback can be modified where cash flows are accumulated and the payback is measured using discounted cash flows.  This is the discounted payback.</a:t>
            </a:r>
            <a:endParaRPr b="0" lang="en-US" sz="20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tical Investment Decision and Equity IRR Criteria</a:t>
            </a:r>
            <a:endParaRPr b="1" lang="en-US" sz="1800" spc="-1" strike="noStrike">
              <a:solidFill>
                <a:srgbClr val="000000"/>
              </a:solidFill>
              <a:latin typeface="Arial"/>
            </a:endParaRPr>
          </a:p>
        </p:txBody>
      </p:sp>
      <p:sp>
        <p:nvSpPr>
          <p:cNvPr id="34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egin with the notion that management has a rate of return criteria where only projects that have an IRR of above 14% are approved for investment and projects that have an IRR below 14% are not. Further, assume that this rate of return is measured using equity cash flow rather than free cash flow, due to corporate objectives related to earnings per share (“EPS”) growth. In this hypothetical situation as long as free cash flow from the project is expected to yield a higher rate of return (project IRR) than the after tax cost of debt, the equity return can be increased if more debt is used to finance the asset. (Magnifying asset returns to increase equity return is the where the term leverage comes from). If, because of the reluctance of bankers to take credit risk, debt cannot be raised for the project, the equity return criteria will probably not be met. On the other hand, if a significant amount of project debt can be raised, the equity IRR will exceed 14% and the investment will be made.  Therefore, in this hypothetical example the amount of debt directly affects the investment decision.  Indeed, the investment is driven by the amount of debt that can be raised rather than by the beta of the project or the risk adjusted all-equity cost of capital relative to the project IRR.</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notion that the leverage of a project affects cost of capital is demonstrated in the following quote from a rating agency:</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onetheless, a project's leverage level is often an indication of its creditworthiness. For instance, a merchant project's ability to produce a stable and predictable revenue stream will never match that of a traditional contract revenue-driven project. Projects with merchant exposure may find that leverage cannot exceed 50% if investment-grade rated debt is sought. Contract-revenue driven projects, on the other hand, typically have had leverage levels around 70% to 80%. </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s in Project Finance</a:t>
            </a:r>
            <a:endParaRPr b="1" lang="en-US" sz="2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 General Discussion </a:t>
            </a:r>
            <a:endParaRPr b="1" lang="en-US" sz="2000" spc="-1" strike="noStrike">
              <a:solidFill>
                <a:srgbClr val="000000"/>
              </a:solidFill>
              <a:latin typeface="Arial"/>
            </a:endParaRPr>
          </a:p>
        </p:txBody>
      </p:sp>
      <p:sp>
        <p:nvSpPr>
          <p:cNvPr id="352" name="PlaceHolder 2"/>
          <p:cNvSpPr>
            <a:spLocks noGrp="1"/>
          </p:cNvSpPr>
          <p:nvPr>
            <p:ph/>
          </p:nvPr>
        </p:nvSpPr>
        <p:spPr>
          <a:xfrm>
            <a:off x="761760" y="1066680"/>
            <a:ext cx="7848360" cy="502920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Definition – Cash into the project divided by debt paid to the bank</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find in the cash flow statemen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 is that the higher the risk, the higher the DSCR, since a larger multiple of cash flow has to be held in relation to debt-servic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SCR used in Credit Rating and in Covenants – Measures the possibility of defaul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a wind project generates a net income of a1 million per annum and the bank requires a DSCR of 1.3, the project could take out a loan for which the debt service would be a770,000 per annum.</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rowed amount is based on a conservative commercial cas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analyze conservative assumptions because their only recourse is to the project and its cash 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rvative reserves estimate (in case of oil &amp; ga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price forecast – 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nd Operating Costs – high</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ized by conservative case Debt Service Coverage Ratio</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kie Wind Energy Project – </a:t>
            </a:r>
            <a:br>
              <a:rPr sz="2000"/>
            </a:br>
            <a:r>
              <a:rPr b="1" lang="en-US" sz="2000" spc="-1" strike="noStrike">
                <a:solidFill>
                  <a:srgbClr val="000000"/>
                </a:solidFill>
                <a:latin typeface="Arial"/>
              </a:rPr>
              <a:t>Canadian Example</a:t>
            </a:r>
            <a:endParaRPr b="1" lang="en-US" sz="2000" spc="-1" strike="noStrike">
              <a:solidFill>
                <a:srgbClr val="000000"/>
              </a:solidFill>
              <a:latin typeface="Arial"/>
            </a:endParaRPr>
          </a:p>
        </p:txBody>
      </p:sp>
      <p:sp>
        <p:nvSpPr>
          <p:cNvPr id="11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LB project financing for a wind farm in British Columbia, Canada.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150 MW</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sor: renewable energy developer EarthFirst Canada Inc.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ns: $214 million including a two-year construction period and will have a 20-year final maturity</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Life: 10- to 13-year range.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Price Agreement: A 20-year power purchase agreement with British Columbia-based electric utility BC Hydro, which has a rating of AA' by Standard &amp; Poor's. </a:t>
            </a:r>
            <a:endParaRPr b="0" lang="en-US" sz="20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356" name="PlaceHolder 2"/>
          <p:cNvSpPr>
            <a:spLocks noGrp="1"/>
          </p:cNvSpPr>
          <p:nvPr>
            <p:ph/>
          </p:nvPr>
        </p:nvSpPr>
        <p:spPr>
          <a:xfrm>
            <a:off x="762120" y="1523880"/>
            <a:ext cx="384480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3"/>
          <p:cNvSpPr>
            <a:spLocks noGrp="1"/>
          </p:cNvSpPr>
          <p:nvPr>
            <p:ph/>
          </p:nvPr>
        </p:nvSpPr>
        <p:spPr>
          <a:xfrm>
            <a:off x="4765680" y="1523880"/>
            <a:ext cx="384480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358" name="Picture 5" descr=""/>
          <p:cNvPicPr/>
          <p:nvPr/>
        </p:nvPicPr>
        <p:blipFill>
          <a:blip r:embed="rId1"/>
          <a:stretch/>
        </p:blipFill>
        <p:spPr>
          <a:xfrm>
            <a:off x="533520" y="2235240"/>
            <a:ext cx="4495680" cy="3073320"/>
          </a:xfrm>
          <a:prstGeom prst="rect">
            <a:avLst/>
          </a:prstGeom>
          <a:ln w="0">
            <a:noFill/>
          </a:ln>
        </p:spPr>
      </p:pic>
      <p:pic>
        <p:nvPicPr>
          <p:cNvPr id="359" name="Picture 6" descr=""/>
          <p:cNvPicPr/>
          <p:nvPr/>
        </p:nvPicPr>
        <p:blipFill>
          <a:blip r:embed="rId2"/>
          <a:stretch/>
        </p:blipFill>
        <p:spPr>
          <a:xfrm>
            <a:off x="4572000" y="2438280"/>
            <a:ext cx="4186080" cy="2862360"/>
          </a:xfrm>
          <a:prstGeom prst="rect">
            <a:avLst/>
          </a:prstGeom>
          <a:ln w="0">
            <a:noFill/>
          </a:ln>
        </p:spPr>
      </p:pic>
      <p:sp>
        <p:nvSpPr>
          <p:cNvPr id="360"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361" name="Line 8"/>
          <p:cNvSpPr/>
          <p:nvPr/>
        </p:nvSpPr>
        <p:spPr>
          <a:xfrm flipV="1">
            <a:off x="1981080" y="2971800"/>
            <a:ext cx="0" cy="9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Line 9"/>
          <p:cNvSpPr/>
          <p:nvPr/>
        </p:nvSpPr>
        <p:spPr>
          <a:xfrm flipV="1">
            <a:off x="6095880" y="3048120"/>
            <a:ext cx="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Text Box 10"/>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364" name="Text Box 11"/>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the Credit Classification of Project Finance Debt</a:t>
            </a:r>
            <a:endParaRPr b="1" lang="en-US" sz="2000" spc="-1" strike="noStrike">
              <a:solidFill>
                <a:srgbClr val="000000"/>
              </a:solidFill>
              <a:latin typeface="Arial"/>
            </a:endParaRPr>
          </a:p>
        </p:txBody>
      </p:sp>
      <p:sp>
        <p:nvSpPr>
          <p:cNvPr id="36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2000"/>
          </a:bodyPr>
          <a:p>
            <a:pPr marL="373680" indent="-3736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the credit classification is important because:</a:t>
            </a:r>
            <a:endParaRPr b="0" lang="en-US" sz="2000" spc="-1" strike="noStrike">
              <a:solidFill>
                <a:srgbClr val="000000"/>
              </a:solidFill>
              <a:latin typeface="Arial"/>
            </a:endParaRPr>
          </a:p>
          <a:p>
            <a:pPr lvl="1" marL="583920" indent="151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probability of default</a:t>
            </a:r>
            <a:endParaRPr b="0" lang="en-US" sz="1800" spc="-1" strike="noStrike">
              <a:solidFill>
                <a:srgbClr val="000000"/>
              </a:solidFill>
              <a:latin typeface="Arial"/>
            </a:endParaRPr>
          </a:p>
          <a:p>
            <a:pPr lvl="1" marL="583920" indent="151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and risk drives the credit spread</a:t>
            </a:r>
            <a:endParaRPr b="0" lang="en-US" sz="1800" spc="-1" strike="noStrike">
              <a:solidFill>
                <a:srgbClr val="000000"/>
              </a:solidFill>
              <a:latin typeface="Arial"/>
            </a:endParaRPr>
          </a:p>
          <a:p>
            <a:pPr lvl="1" marL="583920" indent="151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drives the ability to gain bank financing</a:t>
            </a:r>
            <a:endParaRPr b="0" lang="en-US" sz="1800" spc="-1" strike="noStrike">
              <a:solidFill>
                <a:srgbClr val="000000"/>
              </a:solidFill>
              <a:latin typeface="Arial"/>
            </a:endParaRPr>
          </a:p>
          <a:p>
            <a:pPr lvl="1" marL="583920" indent="151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ing an investment grade bond rating or above drives access to investors in bonds</a:t>
            </a:r>
            <a:endParaRPr b="0" lang="en-US" sz="1800" spc="-1" strike="noStrike">
              <a:solidFill>
                <a:srgbClr val="000000"/>
              </a:solidFill>
              <a:latin typeface="Arial"/>
            </a:endParaRPr>
          </a:p>
          <a:p>
            <a:pPr marL="373680" indent="-3736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than being used for covenants, the primary purpose of credit ratios such as the DSCR is to gauge the credit risk of a project loan.</a:t>
            </a:r>
            <a:endParaRPr b="0" lang="en-US" sz="2000" spc="-1" strike="noStrike">
              <a:solidFill>
                <a:srgbClr val="000000"/>
              </a:solidFill>
              <a:latin typeface="Arial"/>
            </a:endParaRPr>
          </a:p>
          <a:p>
            <a:pPr marL="373680" indent="-3736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risk in turn is determined by the probability of default of a loan.</a:t>
            </a:r>
            <a:endParaRPr b="0" lang="en-US" sz="2000" spc="-1" strike="noStrike">
              <a:solidFill>
                <a:srgbClr val="000000"/>
              </a:solidFill>
              <a:latin typeface="Arial"/>
            </a:endParaRPr>
          </a:p>
          <a:p>
            <a:pPr marL="373680" indent="-3736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ason a PFI project with a 1.2x DSCR and a merchant power plant with a 2.5x DSCR may have the same credit rating is that they both have similar probability of default.</a:t>
            </a:r>
            <a:endParaRPr b="0"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368" name="Object 3"/>
          <p:cNvGraphicFramePr/>
          <p:nvPr/>
        </p:nvGraphicFramePr>
        <p:xfrm>
          <a:off x="1752480" y="1981080"/>
          <a:ext cx="5105520" cy="4208760"/>
        </p:xfrm>
        <a:graphic>
          <a:graphicData uri="http://schemas.openxmlformats.org/presentationml/2006/ole">
            <p:oleObj progId="Excel.Sheet.12" r:id="rId1" spid="">
              <p:embed/>
              <p:pic>
                <p:nvPicPr>
                  <p:cNvPr id="369"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370"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and Target of BBB in Project Finance from S&amp;P website</a:t>
            </a:r>
            <a:endParaRPr b="1" lang="en-US" sz="2000" spc="-1" strike="noStrike">
              <a:solidFill>
                <a:srgbClr val="000000"/>
              </a:solidFill>
              <a:latin typeface="Arial"/>
            </a:endParaRPr>
          </a:p>
        </p:txBody>
      </p:sp>
      <p:pic>
        <p:nvPicPr>
          <p:cNvPr id="372" name="Picture 3" descr="image"/>
          <p:cNvPicPr/>
          <p:nvPr/>
        </p:nvPicPr>
        <p:blipFill>
          <a:blip r:embed="rId1"/>
          <a:stretch/>
        </p:blipFill>
        <p:spPr>
          <a:xfrm>
            <a:off x="1143000" y="1143000"/>
            <a:ext cx="6858000" cy="513396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S&amp;P Stats</a:t>
            </a:r>
            <a:endParaRPr b="1" lang="en-US" sz="2000" spc="-1" strike="noStrike">
              <a:solidFill>
                <a:srgbClr val="000000"/>
              </a:solidFill>
              <a:latin typeface="Arial"/>
            </a:endParaRPr>
          </a:p>
        </p:txBody>
      </p:sp>
      <p:pic>
        <p:nvPicPr>
          <p:cNvPr id="374" name="Picture 3" descr=""/>
          <p:cNvPicPr/>
          <p:nvPr/>
        </p:nvPicPr>
        <p:blipFill>
          <a:blip r:embed="rId1"/>
          <a:stretch/>
        </p:blipFill>
        <p:spPr>
          <a:xfrm>
            <a:off x="990720" y="1617840"/>
            <a:ext cx="7315200" cy="433836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Credit Analysis – Backward Looking Credit Ratios to Gauge Bond Ratings and Bank Ratings</a:t>
            </a:r>
            <a:endParaRPr b="1" lang="en-US" sz="2000" spc="-1" strike="noStrike">
              <a:solidFill>
                <a:srgbClr val="000000"/>
              </a:solidFill>
              <a:latin typeface="Arial"/>
            </a:endParaRPr>
          </a:p>
        </p:txBody>
      </p:sp>
      <p:sp>
        <p:nvSpPr>
          <p:cNvPr id="37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ratios are used gauge the credit classification from financial statements such as the debt service coverage benchmarks in project financ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7" name="Picture 4" descr=""/>
          <p:cNvPicPr/>
          <p:nvPr/>
        </p:nvPicPr>
        <p:blipFill>
          <a:blip r:embed="rId1"/>
          <a:stretch/>
        </p:blipFill>
        <p:spPr>
          <a:xfrm>
            <a:off x="2743200" y="2678040"/>
            <a:ext cx="5867280" cy="341784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Use of Financial Ratios in Establishing Credit Quality</a:t>
            </a:r>
            <a:endParaRPr b="1" lang="en-US" sz="2000" spc="-1" strike="noStrike">
              <a:solidFill>
                <a:srgbClr val="000000"/>
              </a:solidFill>
              <a:latin typeface="Arial"/>
            </a:endParaRPr>
          </a:p>
        </p:txBody>
      </p:sp>
      <p:pic>
        <p:nvPicPr>
          <p:cNvPr id="379" name="Picture 3" descr=""/>
          <p:cNvPicPr/>
          <p:nvPr/>
        </p:nvPicPr>
        <p:blipFill>
          <a:blip r:embed="rId1"/>
          <a:stretch/>
        </p:blipFill>
        <p:spPr>
          <a:xfrm>
            <a:off x="5257800" y="1371600"/>
            <a:ext cx="3656160" cy="4648320"/>
          </a:xfrm>
          <a:prstGeom prst="rect">
            <a:avLst/>
          </a:prstGeom>
          <a:ln w="0">
            <a:noFill/>
          </a:ln>
        </p:spPr>
      </p:pic>
      <p:pic>
        <p:nvPicPr>
          <p:cNvPr id="380" name="Picture 4" descr=""/>
          <p:cNvPicPr/>
          <p:nvPr/>
        </p:nvPicPr>
        <p:blipFill>
          <a:blip r:embed="rId2"/>
          <a:stretch/>
        </p:blipFill>
        <p:spPr>
          <a:xfrm>
            <a:off x="457200" y="1523880"/>
            <a:ext cx="5872320" cy="2433600"/>
          </a:xfrm>
          <a:prstGeom prst="rect">
            <a:avLst/>
          </a:prstGeom>
          <a:ln w="0">
            <a:noFill/>
          </a:ln>
        </p:spPr>
      </p:pic>
      <p:sp>
        <p:nvSpPr>
          <p:cNvPr id="381" name="Line 5"/>
          <p:cNvSpPr/>
          <p:nvPr/>
        </p:nvSpPr>
        <p:spPr>
          <a:xfrm>
            <a:off x="6705720" y="1981080"/>
            <a:ext cx="144756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Line 6"/>
          <p:cNvSpPr/>
          <p:nvPr/>
        </p:nvSpPr>
        <p:spPr>
          <a:xfrm flipH="1">
            <a:off x="2743200" y="2362320"/>
            <a:ext cx="19051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83"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Ratings</a:t>
            </a:r>
            <a:endParaRPr b="1" lang="en-US" sz="2000" spc="-1" strike="noStrike">
              <a:solidFill>
                <a:srgbClr val="000000"/>
              </a:solidFill>
              <a:latin typeface="Arial"/>
            </a:endParaRPr>
          </a:p>
        </p:txBody>
      </p:sp>
      <p:sp>
        <p:nvSpPr>
          <p:cNvPr id="3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trong Rating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to generate sufficient cash flow to maintain DSCR’s within industry norms for investment grade rating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amortizing debt</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control over cash flows and collateral</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nagement with track record of meeting budgets in the country</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risk mitigatio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Weak Rating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 below 1.0 under moderate stress test scenario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llet maturiti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funds from operating cash flow</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limited control over cash flow</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has limited experience in the country</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s Assignment – Basel II Document</a:t>
            </a:r>
            <a:endParaRPr b="1" lang="en-US" sz="2000" spc="-1" strike="noStrike">
              <a:solidFill>
                <a:srgbClr val="000000"/>
              </a:solidFill>
              <a:latin typeface="Arial"/>
            </a:endParaRPr>
          </a:p>
        </p:txBody>
      </p:sp>
      <p:sp>
        <p:nvSpPr>
          <p:cNvPr id="38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 of objective benchmarks that measure risk factors, such as DSCR’s, LLCR’s and break-even oil prices.</a:t>
            </a:r>
            <a:endParaRPr b="0" lang="en-US" sz="2000" spc="-1" strike="noStrike">
              <a:solidFill>
                <a:srgbClr val="000000"/>
              </a:solidFill>
              <a:latin typeface="Arial"/>
            </a:endParaRPr>
          </a:p>
          <a:p>
            <a:pPr lvl="1" marL="635040" indent="1652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imulation model</a:t>
            </a:r>
            <a:r>
              <a:rPr b="0" lang="en-US" sz="1800" spc="-1" strike="noStrike">
                <a:solidFill>
                  <a:srgbClr val="000000"/>
                </a:solidFill>
                <a:latin typeface="Arial"/>
              </a:rPr>
              <a:t> that alters critical inputs changed that measures the likelihood of default (Monte Carlo Simulation with oil price varied to measure the potential for the DSCR to fall below 1.0)</a:t>
            </a:r>
            <a:endParaRPr b="0" lang="en-US" sz="1800" spc="-1" strike="noStrike">
              <a:solidFill>
                <a:srgbClr val="000000"/>
              </a:solidFill>
              <a:latin typeface="Arial"/>
            </a:endParaRPr>
          </a:p>
          <a:p>
            <a:pPr lvl="1" marL="635040" indent="1652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tress test to evaluate whether the transaction can withstand in a critical revenue or expense</a:t>
            </a:r>
            <a:r>
              <a:rPr b="0" lang="en-US" sz="1800" spc="-1" strike="noStrike">
                <a:solidFill>
                  <a:srgbClr val="000000"/>
                </a:solidFill>
                <a:latin typeface="Arial"/>
              </a:rPr>
              <a:t>.  Determine financial flexibility in the face of adversity.</a:t>
            </a:r>
            <a:endParaRPr b="0" lang="en-US" sz="1800" spc="-1" strike="noStrike">
              <a:solidFill>
                <a:srgbClr val="000000"/>
              </a:solidFill>
              <a:latin typeface="Arial"/>
            </a:endParaRPr>
          </a:p>
          <a:p>
            <a:pPr lvl="1" marL="635040" indent="1652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Judgmental criteria</a:t>
            </a:r>
            <a:r>
              <a:rPr b="0" lang="en-US" sz="1800" spc="-1" strike="noStrike">
                <a:solidFill>
                  <a:srgbClr val="000000"/>
                </a:solidFill>
                <a:latin typeface="Arial"/>
              </a:rPr>
              <a:t> and weighting systems that use descriptions to distinguish credit quality.</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Drives the Debt Capacity</a:t>
            </a:r>
            <a:endParaRPr b="1" lang="en-US" sz="2000" spc="-1" strike="noStrike">
              <a:solidFill>
                <a:srgbClr val="000000"/>
              </a:solidFill>
              <a:latin typeface="Arial"/>
            </a:endParaRPr>
          </a:p>
        </p:txBody>
      </p:sp>
      <p:pic>
        <p:nvPicPr>
          <p:cNvPr id="389" name="Picture 3" descr=""/>
          <p:cNvPicPr/>
          <p:nvPr/>
        </p:nvPicPr>
        <p:blipFill>
          <a:blip r:embed="rId1"/>
          <a:stretch/>
        </p:blipFill>
        <p:spPr>
          <a:xfrm>
            <a:off x="4648320" y="2133720"/>
            <a:ext cx="3809880" cy="2563560"/>
          </a:xfrm>
          <a:prstGeom prst="rect">
            <a:avLst/>
          </a:prstGeom>
          <a:ln w="0">
            <a:noFill/>
          </a:ln>
        </p:spPr>
      </p:pic>
      <p:sp>
        <p:nvSpPr>
          <p:cNvPr id="390"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bt service coverage ratio is a financial output in a project finance transaction which cannot be determined by sponsors of a project in advance.  The debt service coverage ratio statistic can be driven my many factors including the debt to capital ratio.  Unlike the DSCR, the debt to capital ratio is driven by a decision by sponsors and lenders.  </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direct relationship between debt service coverage ratios and the debt to capital ratio once free cash flows have been established.  The table above shows the average and minimum debt service coverage ratio for the combined cycle plant assuming that price levels for the plant result in a project IRR of 11.09%.   The graph illustrates that a debt service coverage ratio of 50% is consistent with a minimum debt service coverage ratio of 1.76x and an average debt service coverage ratio of 2.19x. </a:t>
            </a:r>
            <a:endParaRPr b="0" lang="en-US" sz="14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oan Life</a:t>
            </a:r>
            <a:endParaRPr b="1" lang="en-US" sz="2000" spc="-1" strike="noStrike">
              <a:solidFill>
                <a:srgbClr val="000000"/>
              </a:solidFill>
              <a:latin typeface="Arial"/>
            </a:endParaRPr>
          </a:p>
        </p:txBody>
      </p:sp>
      <p:sp>
        <p:nvSpPr>
          <p:cNvPr id="1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P Paribas was in the market last week with a 144A for the Panoche Energy Center in California.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al is $330 million in size,</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 21.5-year final,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year average life maturity.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amp; Poor's has a rating of BBB-' on the deal, which is expected to price this week. </a:t>
            </a:r>
            <a:endParaRPr b="0" lang="en-US" sz="20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SCR Criteria to Establish Debt Levels</a:t>
            </a:r>
            <a:endParaRPr b="1" lang="en-US" sz="2000" spc="-1" strike="noStrike">
              <a:solidFill>
                <a:srgbClr val="000000"/>
              </a:solidFill>
              <a:latin typeface="Arial"/>
            </a:endParaRPr>
          </a:p>
        </p:txBody>
      </p:sp>
      <p:sp>
        <p:nvSpPr>
          <p:cNvPr id="39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on DSCR Targets for Alternative Industries</a:t>
            </a:r>
            <a:endParaRPr b="1" lang="en-US" sz="2000" spc="-1" strike="noStrike">
              <a:solidFill>
                <a:srgbClr val="000000"/>
              </a:solidFill>
              <a:latin typeface="Arial"/>
            </a:endParaRPr>
          </a:p>
        </p:txBody>
      </p:sp>
      <p:sp>
        <p:nvSpPr>
          <p:cNvPr id="394" name="PlaceHolder 2"/>
          <p:cNvSpPr>
            <a:spLocks noGrp="1"/>
          </p:cNvSpPr>
          <p:nvPr>
            <p:ph/>
          </p:nvPr>
        </p:nvSpPr>
        <p:spPr>
          <a:xfrm>
            <a:off x="762120" y="1523880"/>
            <a:ext cx="7772400" cy="41911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in DSCR estimate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5" name="Picture 4" descr=""/>
          <p:cNvPicPr/>
          <p:nvPr/>
        </p:nvPicPr>
        <p:blipFill>
          <a:blip r:embed="rId1"/>
          <a:stretch/>
        </p:blipFill>
        <p:spPr>
          <a:xfrm>
            <a:off x="380880" y="2666880"/>
            <a:ext cx="8610840" cy="164808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DSCR for Wind Power</a:t>
            </a:r>
            <a:endParaRPr b="1" lang="en-US" sz="2000" spc="-1" strike="noStrike">
              <a:solidFill>
                <a:srgbClr val="000000"/>
              </a:solidFill>
              <a:latin typeface="Arial"/>
            </a:endParaRPr>
          </a:p>
        </p:txBody>
      </p:sp>
      <p:sp>
        <p:nvSpPr>
          <p:cNvPr id="39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6000"/>
          </a:bodyPr>
          <a:p>
            <a:pPr marL="389880" indent="-3898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we want revenues after all operating costs and taxes to be about 50% higher than what we actually need to repay the debt. This means that on any given period, revenues can be a third lower for any reason (whether lower wind, poor operating performance, or lower electricity prices) and we will still have enough money to repay debt.</a:t>
            </a:r>
            <a:endParaRPr b="0" lang="en-US" sz="2000" spc="-1" strike="noStrike">
              <a:solidFill>
                <a:srgbClr val="000000"/>
              </a:solidFill>
              <a:latin typeface="Arial"/>
            </a:endParaRPr>
          </a:p>
          <a:p>
            <a:pPr marL="389880" indent="-3898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mplies </a:t>
            </a:r>
            <a:r>
              <a:rPr b="1" i="1" lang="en-US" sz="2000" spc="-1" strike="noStrike">
                <a:solidFill>
                  <a:srgbClr val="3366cc"/>
                </a:solidFill>
                <a:latin typeface="Arial"/>
              </a:rPr>
              <a:t>1.5x DSCR</a:t>
            </a:r>
            <a:endParaRPr b="0" lang="en-US" sz="2000" spc="-1" strike="noStrike">
              <a:solidFill>
                <a:srgbClr val="000000"/>
              </a:solidFill>
              <a:latin typeface="Arial"/>
            </a:endParaRPr>
          </a:p>
          <a:p>
            <a:pPr marL="389880" indent="-3898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 is highly predictable in the long run but highly volatile and uncertain in the short term, thus leading to strong comfort that the long term average will be close to predictions, but with an also strong likelihood that some seasons or even some years could see significantly lower production levels.  </a:t>
            </a:r>
            <a:endParaRPr b="0" lang="en-US" sz="2000" spc="-1" strike="noStrike">
              <a:solidFill>
                <a:srgbClr val="000000"/>
              </a:solidFill>
              <a:latin typeface="Arial"/>
            </a:endParaRPr>
          </a:p>
          <a:p>
            <a:pPr marL="389880" indent="-3898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SCR has increased from </a:t>
            </a:r>
            <a:r>
              <a:rPr b="1" i="1" lang="en-US" sz="2000" spc="-1" strike="noStrike">
                <a:solidFill>
                  <a:srgbClr val="3366cc"/>
                </a:solidFill>
                <a:latin typeface="Arial"/>
              </a:rPr>
              <a:t>1.40x to 1.45x</a:t>
            </a:r>
            <a:r>
              <a:rPr b="0" lang="en-US" sz="2000" spc="-1" strike="noStrike">
                <a:solidFill>
                  <a:srgbClr val="000000"/>
                </a:solidFill>
                <a:latin typeface="Arial"/>
              </a:rPr>
              <a:t> according to a study by LBL. </a:t>
            </a:r>
            <a:endParaRPr b="0" lang="en-US" sz="20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Reference)</a:t>
            </a:r>
            <a:endParaRPr b="1" lang="en-US" sz="2000" spc="-1" strike="noStrike">
              <a:solidFill>
                <a:srgbClr val="000000"/>
              </a:solidFill>
              <a:latin typeface="Arial"/>
            </a:endParaRPr>
          </a:p>
        </p:txBody>
      </p:sp>
      <p:sp>
        <p:nvSpPr>
          <p:cNvPr id="39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minimum, investment-grade </a:t>
            </a:r>
            <a:r>
              <a:rPr b="0" lang="en-US" sz="2000" spc="-1" strike="noStrike">
                <a:solidFill>
                  <a:srgbClr val="ff0000"/>
                </a:solidFill>
                <a:latin typeface="Arial"/>
              </a:rPr>
              <a:t>merchant projects</a:t>
            </a:r>
            <a:r>
              <a:rPr b="0" lang="en-US" sz="2000" spc="-1" strike="noStrike">
                <a:solidFill>
                  <a:srgbClr val="000000"/>
                </a:solidFill>
                <a:latin typeface="Arial"/>
              </a:rPr>
              <a:t> probably will have to exceed a </a:t>
            </a:r>
            <a:r>
              <a:rPr b="0" lang="en-US" sz="2000" spc="-1" strike="noStrike">
                <a:solidFill>
                  <a:srgbClr val="0066ff"/>
                </a:solidFill>
                <a:latin typeface="Arial"/>
              </a:rPr>
              <a:t>2.0x</a:t>
            </a:r>
            <a:r>
              <a:rPr b="0" lang="en-US" sz="2000" spc="-1" strike="noStrike">
                <a:solidFill>
                  <a:srgbClr val="000000"/>
                </a:solidFill>
                <a:latin typeface="Arial"/>
              </a:rPr>
              <a:t> annual DSCR through debt maturity, but also show steadily increasing ratios. Even with</a:t>
            </a:r>
            <a:r>
              <a:rPr b="0" lang="en-US" sz="2000" spc="-1" strike="noStrike">
                <a:solidFill>
                  <a:srgbClr val="0066ff"/>
                </a:solidFill>
                <a:latin typeface="Arial"/>
              </a:rPr>
              <a:t> 2.0x</a:t>
            </a:r>
            <a:r>
              <a:rPr b="0" lang="en-US" sz="20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re traditional </a:t>
            </a:r>
            <a:r>
              <a:rPr b="0" lang="en-US" sz="2000" spc="-1" strike="noStrike">
                <a:solidFill>
                  <a:srgbClr val="ff0000"/>
                </a:solidFill>
                <a:latin typeface="Arial"/>
              </a:rPr>
              <a:t>contract revenue</a:t>
            </a:r>
            <a:r>
              <a:rPr b="0" lang="en-US" sz="2000" spc="-1" strike="noStrike">
                <a:solidFill>
                  <a:srgbClr val="000000"/>
                </a:solidFill>
                <a:latin typeface="Arial"/>
              </a:rPr>
              <a:t> driven projects, minimum base case coverage levels should exceed </a:t>
            </a:r>
            <a:r>
              <a:rPr b="0" lang="en-US" sz="2000" spc="-1" strike="noStrike">
                <a:solidFill>
                  <a:srgbClr val="0066ff"/>
                </a:solidFill>
                <a:latin typeface="Arial"/>
              </a:rPr>
              <a:t>1.3x</a:t>
            </a:r>
            <a:r>
              <a:rPr b="0" lang="en-US" sz="2000" spc="-1" strike="noStrike">
                <a:solidFill>
                  <a:srgbClr val="000000"/>
                </a:solidFill>
                <a:latin typeface="Arial"/>
              </a:rPr>
              <a:t> to </a:t>
            </a:r>
            <a:r>
              <a:rPr b="0" lang="en-US" sz="2000" spc="-1" strike="noStrike">
                <a:solidFill>
                  <a:srgbClr val="0066ff"/>
                </a:solidFill>
                <a:latin typeface="Arial"/>
              </a:rPr>
              <a:t>1.5x</a:t>
            </a:r>
            <a:r>
              <a:rPr b="0" lang="en-US" sz="2000" spc="-1" strike="noStrike">
                <a:solidFill>
                  <a:srgbClr val="000000"/>
                </a:solidFill>
                <a:latin typeface="Arial"/>
              </a:rPr>
              <a:t> levels for investment-grade.</a:t>
            </a:r>
            <a:endParaRPr b="0" lang="en-US" sz="20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401" name="Picture 3" descr=""/>
          <p:cNvPicPr/>
          <p:nvPr/>
        </p:nvPicPr>
        <p:blipFill>
          <a:blip r:embed="rId1"/>
          <a:stretch/>
        </p:blipFill>
        <p:spPr>
          <a:xfrm>
            <a:off x="990720" y="1447920"/>
            <a:ext cx="7068960" cy="4808520"/>
          </a:xfrm>
          <a:prstGeom prst="rect">
            <a:avLst/>
          </a:prstGeom>
          <a:ln w="0">
            <a:noFill/>
          </a:ln>
        </p:spPr>
      </p:pic>
    </p:spTree>
  </p:cSld>
  <p:transition>
    <p:zoom dir="in"/>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PFI Transactions</a:t>
            </a:r>
            <a:endParaRPr b="1" lang="en-US" sz="2000" spc="-1" strike="noStrike">
              <a:solidFill>
                <a:srgbClr val="000000"/>
              </a:solidFill>
              <a:latin typeface="Arial"/>
            </a:endParaRPr>
          </a:p>
        </p:txBody>
      </p:sp>
      <p:sp>
        <p:nvSpPr>
          <p:cNvPr id="40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SCR in PFI transactions can be very low – in the range of 1.05 – 1.2.  The low DSCR results from the tight coverage of revenue and expense fluctuations with contra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low DSCR, small risks in other transactions can become large risks for project loa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nterest rate fluctuations may have a small effect on transactions where the DSCR is 1.8, but the fluctuations in interest rates can cause default in the very tight PFI transactions.  This is why there are 100% interest rate swaps in PFI.</a:t>
            </a:r>
            <a:endParaRPr b="0" lang="en-US" sz="20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Issues in Computing the DSCR</a:t>
            </a:r>
            <a:endParaRPr b="1" lang="en-US" sz="2000" spc="-1" strike="noStrike">
              <a:solidFill>
                <a:srgbClr val="000000"/>
              </a:solidFill>
              <a:latin typeface="Arial"/>
            </a:endParaRPr>
          </a:p>
        </p:txBody>
      </p:sp>
      <p:sp>
        <p:nvSpPr>
          <p:cNvPr id="40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intricacies in computing the DSCR despite it being a simple ratio.</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ome general discussion</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s are the primary quantitative measure of project financial credit strength. The DSCR is the ratio of net cash flow to principal and interest obligations. Cash from operations is calculated strictly by taking cash revenues and subtracting expenses and taxes, but excluding interest and principal needed to maintain ongoing operation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lso subtract changes in working capital and sustaining capital expenditure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extent that a project has tax obligations, such as host country income tax, withholding taxes on dividends and interest paid overseas, etc., these taxes are treated as ongoing expenses needed to keep a project operating.   </a:t>
            </a:r>
            <a:endParaRPr b="0" lang="en-US" sz="16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DSCR Calculations</a:t>
            </a:r>
            <a:endParaRPr b="1" lang="en-US" sz="2000" spc="-1" strike="noStrike">
              <a:solidFill>
                <a:srgbClr val="000000"/>
              </a:solidFill>
              <a:latin typeface="Arial"/>
            </a:endParaRPr>
          </a:p>
        </p:txBody>
      </p:sp>
      <p:sp>
        <p:nvSpPr>
          <p:cNvPr id="4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ratio that measures the minimum DSCR the project will see through debt maturity. The minimum DSCR will likely point to the project's greatest period of financial stress. </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DSCR</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s forward three years, as a near-term measure of financial strength. </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s all of the minimum DSCRs remaining through maturity (as opposed to calculating the average CFO and dividing by the average annual debt service). The average DSCR provides a general measure of a project's cash flow coverage of debt obligation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 when viewed alongside the long-term and short-term minimum DSCR, does provide another measure of project comparability. </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stronger projects will show annual DSCRs that steadily increase with time to partially offset the risk that future cash flows tend to be less certain than near term cash flows.  </a:t>
            </a:r>
            <a:endParaRPr b="0" lang="en-US" sz="16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Between Free Cash Flow and Cash Flow for the DSCR</a:t>
            </a:r>
            <a:endParaRPr b="1" lang="en-US" sz="2000" spc="-1" strike="noStrike">
              <a:solidFill>
                <a:srgbClr val="000000"/>
              </a:solidFill>
              <a:latin typeface="Arial"/>
            </a:endParaRPr>
          </a:p>
        </p:txBody>
      </p:sp>
      <p:sp>
        <p:nvSpPr>
          <p:cNvPr id="4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interest incom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s taxes to remove benefits of interest incom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proceeds from asset sales and insurance proceed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s the amount the project would earn if there was no debt financing</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make adjustments for interest during construction</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interest incom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actual taxe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amounts that will not be available on an on-going basis to pay debt service</a:t>
            </a:r>
            <a:endParaRPr b="0" lang="en-US" sz="16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1: DSRA Balances in the DSCR</a:t>
            </a:r>
            <a:endParaRPr b="1" lang="en-US" sz="2000" spc="-1" strike="noStrike">
              <a:solidFill>
                <a:srgbClr val="000000"/>
              </a:solidFill>
              <a:latin typeface="Arial"/>
            </a:endParaRPr>
          </a:p>
        </p:txBody>
      </p:sp>
      <p:sp>
        <p:nvSpPr>
          <p:cNvPr id="41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has better quality if it has a debt service reserve accoun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not include all cash available to pay bank, including cash in accoun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S&amp;P</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tio calculation also </a:t>
            </a:r>
            <a:r>
              <a:rPr b="1" i="1" lang="en-US" sz="2000" spc="-1" strike="noStrike">
                <a:solidFill>
                  <a:srgbClr val="000000"/>
                </a:solidFill>
                <a:latin typeface="Arial"/>
              </a:rPr>
              <a:t>excludes any cash balances that a project could draw on to service debt,</a:t>
            </a:r>
            <a:r>
              <a:rPr b="0" lang="en-US" sz="2000" spc="-1" strike="noStrike">
                <a:solidFill>
                  <a:srgbClr val="000000"/>
                </a:solidFill>
                <a:latin typeface="Arial"/>
              </a:rPr>
              <a:t> such as the debt service reserve fund or maintenance reserve funds. </a:t>
            </a:r>
            <a:endParaRPr b="0" lang="en-US" sz="20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L Example (2003)</a:t>
            </a:r>
            <a:endParaRPr b="1" lang="en-US" sz="2000" spc="-1" strike="noStrike">
              <a:solidFill>
                <a:srgbClr val="000000"/>
              </a:solidFill>
              <a:latin typeface="Arial"/>
            </a:endParaRPr>
          </a:p>
        </p:txBody>
      </p:sp>
      <p:sp>
        <p:nvSpPr>
          <p:cNvPr id="115" name="PlaceHolder 2"/>
          <p:cNvSpPr>
            <a:spLocks noGrp="1"/>
          </p:cNvSpPr>
          <p:nvPr>
            <p:ph/>
          </p:nvPr>
        </p:nvSpPr>
        <p:spPr>
          <a:xfrm>
            <a:off x="457200" y="1599840"/>
            <a:ext cx="8229600" cy="472428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1.86</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um 1.74</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Rating</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ody’s Baa3</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P BBB-</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 Accounts</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Months Debt Service Reserve Account</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llion Operating Reserve</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Maintenance Reserve</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y Support</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aranteed by Sponsor</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venants</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tions allowed only if DSCR is above 1.3 times</a:t>
            </a:r>
            <a:endParaRPr b="0" lang="en-US" sz="14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2: Senior and Subordinated DSCR</a:t>
            </a:r>
            <a:endParaRPr b="1" lang="en-US" sz="2000" spc="-1" strike="noStrike">
              <a:solidFill>
                <a:srgbClr val="000000"/>
              </a:solidFill>
              <a:latin typeface="Arial"/>
            </a:endParaRPr>
          </a:p>
        </p:txBody>
      </p:sp>
      <p:sp>
        <p:nvSpPr>
          <p:cNvPr id="4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nior DSCR</a:t>
            </a:r>
            <a:r>
              <a:rPr b="0" lang="en-AU" sz="1600" spc="-1" strike="noStrike">
                <a:solidFill>
                  <a:srgbClr val="000000"/>
                </a:solidFill>
                <a:latin typeface="Arial"/>
              </a:rPr>
              <a:t>: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enior DSCR, divide the net cash flow by the senior debt service obligations, exactly as it would if only one class of debt existed.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ordinated DSCR – Two Methods</a:t>
            </a:r>
            <a:r>
              <a:rPr b="0" lang="en-US" sz="1600" spc="-1" strike="noStrike">
                <a:solidFill>
                  <a:srgbClr val="000000"/>
                </a:solidFill>
                <a:latin typeface="Arial"/>
              </a:rPr>
              <a:t>.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method calculates the ratio of the total net cash flow to the project's total debt service obligations (senior plus subordinated). This consolidated calculation provides the only true measure of project cash flow available to service subordinated debt.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method takes the net cash flow and then subtracts the senior debt service obligation to determine the residual cash flow available to cover subordinated debt service. This method, does not, however, provide a reliable measure of credit risk that subordinated debt faces. A combination of small subordinated debt service relative to the residual CFO could result in a much higher subordinated DSCR relative to the consolidated DSCR calculation. Moreover, the ratio of residual CFO to subordinated debt is much more sensitive to small changes to a project's total CFO than the consolidated measure.   </a:t>
            </a:r>
            <a:endParaRPr b="0" lang="en-US" sz="16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3: Operating Reserves and Debt Service Reserve Account Movements</a:t>
            </a:r>
            <a:endParaRPr b="1" lang="en-US" sz="2000" spc="-1" strike="noStrike">
              <a:solidFill>
                <a:srgbClr val="000000"/>
              </a:solidFill>
              <a:latin typeface="Arial"/>
            </a:endParaRPr>
          </a:p>
        </p:txBody>
      </p:sp>
      <p:sp>
        <p:nvSpPr>
          <p:cNvPr id="4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must be put aside into a reserve account for major maintenance or other lumpy expenditures, the cash that goes into the accounts should be treated as a cash outflow, like an operating expens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operating expense occurs and funds are withdrawn, then the cash withdrawn is included as an inflow in the DSCR.</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the DSCR is smoothed out</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money is put aside in a DSRA account from operating cash flow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ash short-falls, then cash is taken out of the DSRA.</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issue the same</a:t>
            </a:r>
            <a:endParaRPr b="0" lang="en-US" sz="16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DSCR Issues</a:t>
            </a:r>
            <a:endParaRPr b="1" lang="en-US" sz="2000" spc="-1" strike="noStrike">
              <a:solidFill>
                <a:srgbClr val="000000"/>
              </a:solidFill>
              <a:latin typeface="Arial"/>
            </a:endParaRPr>
          </a:p>
        </p:txBody>
      </p:sp>
      <p:sp>
        <p:nvSpPr>
          <p:cNvPr id="4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eviewing various transactions, various DSCR issues arise.  Some of these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flow sweep, should an interest only ratio be computed, or should alternative ratios be us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break-even analysis should debt service reserves be included in the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breakage costs for interest rate swaps, how should breakage costs be treat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ifferent ratios be used for backward looking analysis and forward looking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sing DSCR’s as triggers to limit dividends or to sweep cash flow, which ratios should be used.</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DSCR Calculations</a:t>
            </a:r>
            <a:endParaRPr b="1" lang="en-US" sz="2000" spc="-1" strike="noStrike">
              <a:solidFill>
                <a:srgbClr val="000000"/>
              </a:solidFill>
              <a:latin typeface="Arial"/>
            </a:endParaRPr>
          </a:p>
        </p:txBody>
      </p:sp>
      <p:sp>
        <p:nvSpPr>
          <p:cNvPr id="41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SCR is not generally computed before the date of project completion.  Therefore, language related to the definition of the completion of the project must be included in the loan agreement:</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1" lang="en-GB" sz="1600" spc="-1" strike="noStrike">
                <a:solidFill>
                  <a:srgbClr val="000000"/>
                </a:solidFill>
                <a:latin typeface="Arial"/>
              </a:rPr>
              <a:t>Completion Date</a:t>
            </a:r>
            <a:r>
              <a:rPr b="0" lang="en-GB" sz="1600" spc="-1" strike="noStrike">
                <a:solidFill>
                  <a:srgbClr val="000000"/>
                </a:solidFill>
                <a:latin typeface="Arial"/>
              </a:rPr>
              <a:t>" means the first date on which the Agent receives notification from the Lenders' Technical Adviser that the following conditions have been fulfilled to the satisfaction of the Lenders' Technical Adviser:</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cession Agreement have been completed, the Authority has issued to the Borrower the [Completion Certificate] pursuant to Clause {cross-reference} of the Concession Agreement and the [Operating Commencement Date] under the Concession Agreement has occurred]; [and]</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struction Contract have been completed and the Borrower has issued to the Contractor the [Final Acceptance Certificate] pursuant to Clause {cross-reference} of the Construction Contract]; [and</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other Completion Date conditions}][;</a:t>
            </a:r>
            <a:endParaRPr b="0" lang="en-US" sz="14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Events of Default</a:t>
            </a:r>
            <a:endParaRPr b="1" lang="en-US" sz="2000" spc="-1" strike="noStrike">
              <a:solidFill>
                <a:srgbClr val="000000"/>
              </a:solidFill>
              <a:latin typeface="Arial"/>
            </a:endParaRPr>
          </a:p>
        </p:txBody>
      </p:sp>
      <p:sp>
        <p:nvSpPr>
          <p:cNvPr id="42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mary function of the DSCR is to measure the probability of defalut – a ratio of 1.0 implies a default.  Fundamental events of default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ilure of the borrower to pay debt servi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comply with insurance requiremen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of a final court judgment in excess of a significant dollar amount which is not paid or stayed after a certain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donment of the project;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the borrower;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of the sponsor to maintain ownership of the project (if the sponsor's ownership is a critical component of the evaluation of the project's credit risk).   </a:t>
            </a:r>
            <a:endParaRPr b="0" lang="en-US" sz="1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Events of Default - Reference</a:t>
            </a:r>
            <a:endParaRPr b="1" lang="en-US" sz="2000" spc="-1" strike="noStrike">
              <a:solidFill>
                <a:srgbClr val="000000"/>
              </a:solidFill>
              <a:latin typeface="Arial"/>
            </a:endParaRPr>
          </a:p>
        </p:txBody>
      </p:sp>
      <p:sp>
        <p:nvSpPr>
          <p:cNvPr id="4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Events of Default Include:</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covenants, </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rger or sale of assets</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deliver notices</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obtain or comply with governmental permits.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s on Materiality</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ed ad hoc.</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s should provide for a clear and adequately described mechanism for allowing the parties to deal with the defaulted project.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ardest part of any negotiation is the definitions of the triggers (called "events of default") which allow banks, in theory, to have the right to take the project from the investors. It is not a simple task, as banks want to be able to step in as soon as something fishy appears, but on the other hand, they do not want to get too closely involved in the running of a project and the inevitable hiccups that happen; it also makes sense to step in only if there is a real problem which the investors seems unable or unwilling to solve. Investors emphatically do not want the banks to have the right to stp in the project, but they know that it is the price to pay to get the leverage they want (in the wind sector, banks usually provide 70-80% of the investment amount upfront)  </a:t>
            </a:r>
            <a:endParaRPr b="0" lang="en-US" sz="1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 in Credit Analysis</a:t>
            </a:r>
            <a:endParaRPr b="1" lang="en-US" sz="20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4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oan Life Coverage Ratio (LLCR):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LLCR computes the present value of cash flows over the debt tenor at the interest rate on debt as the numerator of the ratio.  The denominator of the ratio is the present value of debt service at the debt rate.  The denominator should equate to the amount of the deb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enominator should be reduced for debt service and other reserve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ject Life Coverage Ratio (PLCR):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is similar to the LLCR except that the present value of cash flows is computed over the economic life rather than over the debt tenor.  As with the LLCR, the denominator of the PLCR is the present value of debt service at the debt rat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measures how much “tail” the project has from cash flows after the loan is re-paid.</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athematics of LLCR</a:t>
            </a:r>
            <a:endParaRPr b="1" lang="en-US" sz="2000" spc="-1" strike="noStrike">
              <a:solidFill>
                <a:srgbClr val="000000"/>
              </a:solidFill>
              <a:latin typeface="Arial"/>
            </a:endParaRPr>
          </a:p>
        </p:txBody>
      </p:sp>
      <p:sp>
        <p:nvSpPr>
          <p:cNvPr id="4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ee how the LLCR works, consider the following poin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cash flow were invested at the interest rate in a bank account, and there was a bullet payment, then one could measure if that cash account was high enough to cover debt paymen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account in the above example were reduced by maturity payments, the end result would be no differe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money in a DSRA, this could be used to make the requirement less, it is just like the concept of net debt in corporate fin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debt service at the interest rate is the same as total debt</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Life Coverage Ratio (LLCR)</a:t>
            </a:r>
            <a:endParaRPr b="1" lang="en-US" sz="2000" spc="-1" strike="noStrike">
              <a:solidFill>
                <a:srgbClr val="000000"/>
              </a:solidFill>
              <a:latin typeface="Arial"/>
            </a:endParaRPr>
          </a:p>
        </p:txBody>
      </p:sp>
      <p:sp>
        <p:nvSpPr>
          <p:cNvPr id="43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28600" indent="-22860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n Life Coverage Ratio – the present value of cash flow before debt service – using the interest rate; divided by the remaining debt balance:</a:t>
            </a:r>
            <a:endParaRPr b="0" lang="en-US" sz="2000" spc="-1" strike="noStrike">
              <a:solidFill>
                <a:srgbClr val="000000"/>
              </a:solidFill>
              <a:latin typeface="Arial"/>
            </a:endParaRPr>
          </a:p>
          <a:p>
            <a:pPr marL="228600" indent="-22860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LCR = PV (debt rate, cash before debt service)/Debt Balance - DSRA</a:t>
            </a:r>
            <a:endParaRPr b="0" lang="en-US" sz="20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the LLCR is DSCR on a present value basis so that the credit quality of the whole project is measured.</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numerator is the PV of the cash available for debt service, discounted at the pre-tax debt rate</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denominator is the PV of debt service at the debt rate, which is the same as the initial debt issued for the project</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does not have a standard definition – it would make most sense to use free cash flow rather than the numerator of the DSCR</a:t>
            </a:r>
            <a:endParaRPr b="0" lang="en-US" sz="1800" spc="-1" strike="noStrike">
              <a:solidFill>
                <a:srgbClr val="000000"/>
              </a:solidFill>
              <a:latin typeface="Arial"/>
            </a:endParaRPr>
          </a:p>
          <a:p>
            <a:pPr marL="22860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John Lennon</dc:creator>
  <dc:description/>
  <dc:language>en-US</dc:language>
  <cp:lastModifiedBy>Elvis Presley</cp:lastModifiedBy>
  <cp:lastPrinted>1999-07-15T13:20:36Z</cp:lastPrinted>
  <dcterms:modified xsi:type="dcterms:W3CDTF">2010-05-06T18:43:22Z</dcterms:modified>
  <cp:revision>379</cp:revision>
  <dc:subject/>
  <dc:title>Objectives of Project Finance Models </dc:title>
</cp:coreProperties>
</file>